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D0FA-3F03-47CC-9E7B-C85F5B17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C51-C7D0-4CE5-B221-3281DAD0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1316-2ECC-4A0B-8CBC-5E00237F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B477-18FA-4438-9A1D-A68A8630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CC79-82E9-41FA-A20E-14BA1996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0D01-FBCE-4B2E-BD25-D8BF1C99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E220-C6D1-430D-9524-9E480F23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FB65-4683-47B4-8451-868314D1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EE14-7D34-4426-A374-ABAA58C4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A5E2-AA15-4705-BD9E-3ED5924D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8917-5067-415B-B7B7-F4EE856F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0815-106C-44FC-B1D3-B0806B1E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30A3-099A-4F78-AACA-CF593379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7B52-477E-479F-8E74-611737F2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FEE9-ECB8-4CDB-B051-4B4AF59C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6018-B8F6-459E-B5A8-DBF28475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9D23-0F3C-459A-A708-02AB1E67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1EFD-139D-4CB5-A4FC-49D7030F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7725-4787-48A7-9104-862F0DF6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B809-DCDA-415F-89E9-A0189111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D2B2-FBC5-4326-8151-0E162AE8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2E58-2563-4D52-8BFD-1D1F4FE5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A9D-1E2B-46E4-AE18-A14A0FF1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C273-6757-4DA2-AA55-D219CA63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CC2E-923B-41B7-B436-2A1A388F175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1D47-55BB-4162-ACF4-6280016A669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pirc@fndfl.or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692520" cy="5553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48320" y="4114800"/>
            <a:ext cx="4038480" cy="2384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Unicode MS"/>
              </a:rPr>
              <a:t>Family Network on Disabilities of Florida, Inc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Unicode MS"/>
              </a:rPr>
              <a:t>2735 Whitney Road Clearwater, Florida 337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Unicode MS"/>
              </a:rPr>
              <a:t>               </a:t>
            </a:r>
            <a:r>
              <a:rPr b="1" lang="en-US" sz="1400" spc="-1" strike="noStrike">
                <a:solidFill>
                  <a:srgbClr val="eaeaea"/>
                </a:solidFill>
                <a:latin typeface="Arial Unicode MS"/>
              </a:rPr>
              <a:t>Phone: (727) 523-113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Unicode MS"/>
              </a:rPr>
              <a:t>               </a:t>
            </a:r>
            <a:r>
              <a:rPr b="1" lang="en-US" sz="1400" spc="-1" strike="noStrike">
                <a:solidFill>
                  <a:srgbClr val="eaeaea"/>
                </a:solidFill>
                <a:latin typeface="Arial Unicode MS"/>
              </a:rPr>
              <a:t>Toll free: (800) 825-868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Unicode MS"/>
              </a:rPr>
              <a:t>               </a:t>
            </a:r>
            <a:r>
              <a:rPr b="1" lang="en-US" sz="1400" spc="-1" strike="noStrike">
                <a:solidFill>
                  <a:srgbClr val="eaeaea"/>
                </a:solidFill>
                <a:latin typeface="Arial Unicode MS"/>
              </a:rPr>
              <a:t>E-mail: </a:t>
            </a:r>
            <a:r>
              <a:rPr b="0" lang="en-US" sz="1400" spc="-1" strike="noStrike" u="sng">
                <a:solidFill>
                  <a:srgbClr val="ff33cc"/>
                </a:solidFill>
                <a:uFillTx/>
                <a:latin typeface="Arial Unicode MS"/>
                <a:hlinkClick r:id="rId2"/>
              </a:rPr>
              <a:t>pirc@fndfl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Unicode MS"/>
              </a:rPr>
              <a:t>              </a:t>
            </a:r>
            <a:r>
              <a:rPr b="1" lang="en-US" sz="1400" spc="-1" strike="noStrike">
                <a:solidFill>
                  <a:srgbClr val="eaeaea"/>
                </a:solidFill>
                <a:latin typeface="Arial Unicode MS"/>
              </a:rPr>
              <a:t>Website: www.fndfl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791320" y="1600200"/>
            <a:ext cx="1358640" cy="2197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72000" y="45720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Understanding Your Child’s Learning Sty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D0CD-85D9-43DE-910B-9A3FE73B13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S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nsing </a:t>
            </a: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F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eling Learne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(SF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Lik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Getting personal attention and prai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haring feelings and experien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orking in groups and being part of a tea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Having someone show how to do someth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Role-playing and personal expre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on-competitive games where no one los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nterpersonal activities; opportunities to learn about himself/herse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58000" y="914400"/>
            <a:ext cx="1452600" cy="115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5C7-81F6-475E-A71C-67693F2533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hat is your child’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learning styl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Sensing Thinking (ST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74320" indent="0" algn="ctr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Intuitive Thinking (NT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74320" indent="0" algn="ctr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Intuitive Feeling (NF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74320" indent="0" algn="ctr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Sensing Feeling (SF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76520" y="1828800"/>
            <a:ext cx="914400" cy="4572000"/>
            <a:chOff x="1676520" y="1828800"/>
            <a:chExt cx="914400" cy="4572000"/>
          </a:xfrm>
        </p:grpSpPr>
        <p:sp>
          <p:nvSpPr>
            <p:cNvPr id="120" name=""/>
            <p:cNvSpPr/>
            <p:nvPr/>
          </p:nvSpPr>
          <p:spPr>
            <a:xfrm>
              <a:off x="1981080" y="1828800"/>
              <a:ext cx="304920" cy="762120"/>
            </a:xfrm>
            <a:custGeom>
              <a:avLst/>
              <a:gdLst/>
              <a:ahLst/>
              <a:rect l="l" t="t" r="r" b="b"/>
              <a:pathLst>
                <a:path w="2495" h="9599">
                  <a:moveTo>
                    <a:pt x="1973" y="1173"/>
                  </a:moveTo>
                  <a:lnTo>
                    <a:pt x="1973" y="1473"/>
                  </a:lnTo>
                  <a:lnTo>
                    <a:pt x="1974" y="1736"/>
                  </a:lnTo>
                  <a:lnTo>
                    <a:pt x="1975" y="2059"/>
                  </a:lnTo>
                  <a:lnTo>
                    <a:pt x="1977" y="2430"/>
                  </a:lnTo>
                  <a:lnTo>
                    <a:pt x="1978" y="2836"/>
                  </a:lnTo>
                  <a:lnTo>
                    <a:pt x="1980" y="3266"/>
                  </a:lnTo>
                  <a:lnTo>
                    <a:pt x="1982" y="3709"/>
                  </a:lnTo>
                  <a:lnTo>
                    <a:pt x="1983" y="4153"/>
                  </a:lnTo>
                  <a:lnTo>
                    <a:pt x="1985" y="4585"/>
                  </a:lnTo>
                  <a:lnTo>
                    <a:pt x="1987" y="4993"/>
                  </a:lnTo>
                  <a:lnTo>
                    <a:pt x="1989" y="5367"/>
                  </a:lnTo>
                  <a:lnTo>
                    <a:pt x="1990" y="5692"/>
                  </a:lnTo>
                  <a:lnTo>
                    <a:pt x="1991" y="5960"/>
                  </a:lnTo>
                  <a:lnTo>
                    <a:pt x="1991" y="6157"/>
                  </a:lnTo>
                  <a:lnTo>
                    <a:pt x="1992" y="6271"/>
                  </a:lnTo>
                  <a:lnTo>
                    <a:pt x="1989" y="6340"/>
                  </a:lnTo>
                  <a:lnTo>
                    <a:pt x="1982" y="6409"/>
                  </a:lnTo>
                  <a:lnTo>
                    <a:pt x="1970" y="6477"/>
                  </a:lnTo>
                  <a:lnTo>
                    <a:pt x="1954" y="6544"/>
                  </a:lnTo>
                  <a:lnTo>
                    <a:pt x="1932" y="6609"/>
                  </a:lnTo>
                  <a:lnTo>
                    <a:pt x="1905" y="6671"/>
                  </a:lnTo>
                  <a:lnTo>
                    <a:pt x="1872" y="6731"/>
                  </a:lnTo>
                  <a:lnTo>
                    <a:pt x="1833" y="6785"/>
                  </a:lnTo>
                  <a:lnTo>
                    <a:pt x="1789" y="6837"/>
                  </a:lnTo>
                  <a:lnTo>
                    <a:pt x="1737" y="6883"/>
                  </a:lnTo>
                  <a:lnTo>
                    <a:pt x="1679" y="6923"/>
                  </a:lnTo>
                  <a:lnTo>
                    <a:pt x="1615" y="6958"/>
                  </a:lnTo>
                  <a:lnTo>
                    <a:pt x="1543" y="6986"/>
                  </a:lnTo>
                  <a:lnTo>
                    <a:pt x="1464" y="7006"/>
                  </a:lnTo>
                  <a:lnTo>
                    <a:pt x="1379" y="7019"/>
                  </a:lnTo>
                  <a:lnTo>
                    <a:pt x="1285" y="7023"/>
                  </a:lnTo>
                  <a:lnTo>
                    <a:pt x="1169" y="7017"/>
                  </a:lnTo>
                  <a:lnTo>
                    <a:pt x="1066" y="6998"/>
                  </a:lnTo>
                  <a:lnTo>
                    <a:pt x="975" y="6968"/>
                  </a:lnTo>
                  <a:lnTo>
                    <a:pt x="894" y="6928"/>
                  </a:lnTo>
                  <a:lnTo>
                    <a:pt x="824" y="6880"/>
                  </a:lnTo>
                  <a:lnTo>
                    <a:pt x="763" y="6826"/>
                  </a:lnTo>
                  <a:lnTo>
                    <a:pt x="712" y="6767"/>
                  </a:lnTo>
                  <a:lnTo>
                    <a:pt x="669" y="6704"/>
                  </a:lnTo>
                  <a:lnTo>
                    <a:pt x="634" y="6640"/>
                  </a:lnTo>
                  <a:lnTo>
                    <a:pt x="605" y="6574"/>
                  </a:lnTo>
                  <a:lnTo>
                    <a:pt x="582" y="6510"/>
                  </a:lnTo>
                  <a:lnTo>
                    <a:pt x="566" y="6448"/>
                  </a:lnTo>
                  <a:lnTo>
                    <a:pt x="554" y="6390"/>
                  </a:lnTo>
                  <a:lnTo>
                    <a:pt x="546" y="6337"/>
                  </a:lnTo>
                  <a:lnTo>
                    <a:pt x="543" y="6292"/>
                  </a:lnTo>
                  <a:lnTo>
                    <a:pt x="542" y="6253"/>
                  </a:lnTo>
                  <a:lnTo>
                    <a:pt x="541" y="6190"/>
                  </a:lnTo>
                  <a:lnTo>
                    <a:pt x="541" y="6069"/>
                  </a:lnTo>
                  <a:lnTo>
                    <a:pt x="539" y="5899"/>
                  </a:lnTo>
                  <a:lnTo>
                    <a:pt x="538" y="5689"/>
                  </a:lnTo>
                  <a:lnTo>
                    <a:pt x="537" y="5449"/>
                  </a:lnTo>
                  <a:lnTo>
                    <a:pt x="535" y="5185"/>
                  </a:lnTo>
                  <a:lnTo>
                    <a:pt x="534" y="4905"/>
                  </a:lnTo>
                  <a:lnTo>
                    <a:pt x="532" y="4620"/>
                  </a:lnTo>
                  <a:lnTo>
                    <a:pt x="530" y="4336"/>
                  </a:lnTo>
                  <a:lnTo>
                    <a:pt x="529" y="4064"/>
                  </a:lnTo>
                  <a:lnTo>
                    <a:pt x="527" y="3810"/>
                  </a:lnTo>
                  <a:lnTo>
                    <a:pt x="526" y="3584"/>
                  </a:lnTo>
                  <a:lnTo>
                    <a:pt x="524" y="3392"/>
                  </a:lnTo>
                  <a:lnTo>
                    <a:pt x="523" y="3246"/>
                  </a:lnTo>
                  <a:lnTo>
                    <a:pt x="523" y="3118"/>
                  </a:lnTo>
                  <a:lnTo>
                    <a:pt x="337" y="3118"/>
                  </a:lnTo>
                  <a:lnTo>
                    <a:pt x="337" y="3222"/>
                  </a:lnTo>
                  <a:lnTo>
                    <a:pt x="338" y="3342"/>
                  </a:lnTo>
                  <a:lnTo>
                    <a:pt x="339" y="3500"/>
                  </a:lnTo>
                  <a:lnTo>
                    <a:pt x="341" y="3691"/>
                  </a:lnTo>
                  <a:lnTo>
                    <a:pt x="343" y="3908"/>
                  </a:lnTo>
                  <a:lnTo>
                    <a:pt x="345" y="4146"/>
                  </a:lnTo>
                  <a:lnTo>
                    <a:pt x="347" y="4399"/>
                  </a:lnTo>
                  <a:lnTo>
                    <a:pt x="348" y="4661"/>
                  </a:lnTo>
                  <a:lnTo>
                    <a:pt x="350" y="4928"/>
                  </a:lnTo>
                  <a:lnTo>
                    <a:pt x="351" y="5191"/>
                  </a:lnTo>
                  <a:lnTo>
                    <a:pt x="353" y="5446"/>
                  </a:lnTo>
                  <a:lnTo>
                    <a:pt x="354" y="5687"/>
                  </a:lnTo>
                  <a:lnTo>
                    <a:pt x="355" y="5909"/>
                  </a:lnTo>
                  <a:lnTo>
                    <a:pt x="355" y="6106"/>
                  </a:lnTo>
                  <a:lnTo>
                    <a:pt x="356" y="6271"/>
                  </a:lnTo>
                  <a:lnTo>
                    <a:pt x="365" y="6412"/>
                  </a:lnTo>
                  <a:lnTo>
                    <a:pt x="383" y="6539"/>
                  </a:lnTo>
                  <a:lnTo>
                    <a:pt x="412" y="6654"/>
                  </a:lnTo>
                  <a:lnTo>
                    <a:pt x="450" y="6757"/>
                  </a:lnTo>
                  <a:lnTo>
                    <a:pt x="494" y="6848"/>
                  </a:lnTo>
                  <a:lnTo>
                    <a:pt x="547" y="6927"/>
                  </a:lnTo>
                  <a:lnTo>
                    <a:pt x="607" y="6997"/>
                  </a:lnTo>
                  <a:lnTo>
                    <a:pt x="672" y="7056"/>
                  </a:lnTo>
                  <a:lnTo>
                    <a:pt x="742" y="7107"/>
                  </a:lnTo>
                  <a:lnTo>
                    <a:pt x="818" y="7149"/>
                  </a:lnTo>
                  <a:lnTo>
                    <a:pt x="896" y="7183"/>
                  </a:lnTo>
                  <a:lnTo>
                    <a:pt x="978" y="7209"/>
                  </a:lnTo>
                  <a:lnTo>
                    <a:pt x="1062" y="7229"/>
                  </a:lnTo>
                  <a:lnTo>
                    <a:pt x="1148" y="7242"/>
                  </a:lnTo>
                  <a:lnTo>
                    <a:pt x="1235" y="7249"/>
                  </a:lnTo>
                  <a:lnTo>
                    <a:pt x="1323" y="7251"/>
                  </a:lnTo>
                  <a:lnTo>
                    <a:pt x="1354" y="7251"/>
                  </a:lnTo>
                  <a:lnTo>
                    <a:pt x="1397" y="7247"/>
                  </a:lnTo>
                  <a:lnTo>
                    <a:pt x="1451" y="7241"/>
                  </a:lnTo>
                  <a:lnTo>
                    <a:pt x="1513" y="7229"/>
                  </a:lnTo>
                  <a:lnTo>
                    <a:pt x="1582" y="7211"/>
                  </a:lnTo>
                  <a:lnTo>
                    <a:pt x="1656" y="7187"/>
                  </a:lnTo>
                  <a:lnTo>
                    <a:pt x="1732" y="7152"/>
                  </a:lnTo>
                  <a:lnTo>
                    <a:pt x="1808" y="7109"/>
                  </a:lnTo>
                  <a:lnTo>
                    <a:pt x="1883" y="7055"/>
                  </a:lnTo>
                  <a:lnTo>
                    <a:pt x="1953" y="6989"/>
                  </a:lnTo>
                  <a:lnTo>
                    <a:pt x="2020" y="6910"/>
                  </a:lnTo>
                  <a:lnTo>
                    <a:pt x="2078" y="6815"/>
                  </a:lnTo>
                  <a:lnTo>
                    <a:pt x="2127" y="6706"/>
                  </a:lnTo>
                  <a:lnTo>
                    <a:pt x="2163" y="6579"/>
                  </a:lnTo>
                  <a:lnTo>
                    <a:pt x="2188" y="6435"/>
                  </a:lnTo>
                  <a:lnTo>
                    <a:pt x="2196" y="6271"/>
                  </a:lnTo>
                  <a:lnTo>
                    <a:pt x="2192" y="6122"/>
                  </a:lnTo>
                  <a:lnTo>
                    <a:pt x="2189" y="5901"/>
                  </a:lnTo>
                  <a:lnTo>
                    <a:pt x="2186" y="5618"/>
                  </a:lnTo>
                  <a:lnTo>
                    <a:pt x="2181" y="5283"/>
                  </a:lnTo>
                  <a:lnTo>
                    <a:pt x="2178" y="4907"/>
                  </a:lnTo>
                  <a:lnTo>
                    <a:pt x="2176" y="4502"/>
                  </a:lnTo>
                  <a:lnTo>
                    <a:pt x="2173" y="4078"/>
                  </a:lnTo>
                  <a:lnTo>
                    <a:pt x="2170" y="3645"/>
                  </a:lnTo>
                  <a:lnTo>
                    <a:pt x="2167" y="3215"/>
                  </a:lnTo>
                  <a:lnTo>
                    <a:pt x="2165" y="2800"/>
                  </a:lnTo>
                  <a:lnTo>
                    <a:pt x="2163" y="2408"/>
                  </a:lnTo>
                  <a:lnTo>
                    <a:pt x="2161" y="2051"/>
                  </a:lnTo>
                  <a:lnTo>
                    <a:pt x="2160" y="1740"/>
                  </a:lnTo>
                  <a:lnTo>
                    <a:pt x="2159" y="1486"/>
                  </a:lnTo>
                  <a:lnTo>
                    <a:pt x="2159" y="1191"/>
                  </a:lnTo>
                  <a:lnTo>
                    <a:pt x="2150" y="1013"/>
                  </a:lnTo>
                  <a:lnTo>
                    <a:pt x="2128" y="854"/>
                  </a:lnTo>
                  <a:lnTo>
                    <a:pt x="2092" y="710"/>
                  </a:lnTo>
                  <a:lnTo>
                    <a:pt x="2044" y="584"/>
                  </a:lnTo>
                  <a:lnTo>
                    <a:pt x="1987" y="473"/>
                  </a:lnTo>
                  <a:lnTo>
                    <a:pt x="1920" y="376"/>
                  </a:lnTo>
                  <a:lnTo>
                    <a:pt x="1845" y="293"/>
                  </a:lnTo>
                  <a:lnTo>
                    <a:pt x="1766" y="222"/>
                  </a:lnTo>
                  <a:lnTo>
                    <a:pt x="1680" y="162"/>
                  </a:lnTo>
                  <a:lnTo>
                    <a:pt x="1593" y="114"/>
                  </a:lnTo>
                  <a:lnTo>
                    <a:pt x="1503" y="76"/>
                  </a:lnTo>
                  <a:lnTo>
                    <a:pt x="1413" y="46"/>
                  </a:lnTo>
                  <a:lnTo>
                    <a:pt x="1325" y="25"/>
                  </a:lnTo>
                  <a:lnTo>
                    <a:pt x="1238" y="11"/>
                  </a:lnTo>
                  <a:lnTo>
                    <a:pt x="1157" y="3"/>
                  </a:lnTo>
                  <a:lnTo>
                    <a:pt x="1081" y="0"/>
                  </a:lnTo>
                  <a:lnTo>
                    <a:pt x="897" y="9"/>
                  </a:lnTo>
                  <a:lnTo>
                    <a:pt x="734" y="35"/>
                  </a:lnTo>
                  <a:lnTo>
                    <a:pt x="593" y="76"/>
                  </a:lnTo>
                  <a:lnTo>
                    <a:pt x="471" y="131"/>
                  </a:lnTo>
                  <a:lnTo>
                    <a:pt x="366" y="200"/>
                  </a:lnTo>
                  <a:lnTo>
                    <a:pt x="277" y="279"/>
                  </a:lnTo>
                  <a:lnTo>
                    <a:pt x="204" y="369"/>
                  </a:lnTo>
                  <a:lnTo>
                    <a:pt x="144" y="469"/>
                  </a:lnTo>
                  <a:lnTo>
                    <a:pt x="97" y="576"/>
                  </a:lnTo>
                  <a:lnTo>
                    <a:pt x="61" y="690"/>
                  </a:lnTo>
                  <a:lnTo>
                    <a:pt x="35" y="808"/>
                  </a:lnTo>
                  <a:lnTo>
                    <a:pt x="17" y="931"/>
                  </a:lnTo>
                  <a:lnTo>
                    <a:pt x="6" y="1056"/>
                  </a:lnTo>
                  <a:lnTo>
                    <a:pt x="1" y="1183"/>
                  </a:lnTo>
                  <a:lnTo>
                    <a:pt x="0" y="1311"/>
                  </a:lnTo>
                  <a:lnTo>
                    <a:pt x="3" y="1436"/>
                  </a:lnTo>
                  <a:lnTo>
                    <a:pt x="3" y="1594"/>
                  </a:lnTo>
                  <a:lnTo>
                    <a:pt x="4" y="1865"/>
                  </a:lnTo>
                  <a:lnTo>
                    <a:pt x="6" y="2231"/>
                  </a:lnTo>
                  <a:lnTo>
                    <a:pt x="9" y="2678"/>
                  </a:lnTo>
                  <a:lnTo>
                    <a:pt x="12" y="3188"/>
                  </a:lnTo>
                  <a:lnTo>
                    <a:pt x="15" y="3745"/>
                  </a:lnTo>
                  <a:lnTo>
                    <a:pt x="18" y="4332"/>
                  </a:lnTo>
                  <a:lnTo>
                    <a:pt x="21" y="4933"/>
                  </a:lnTo>
                  <a:lnTo>
                    <a:pt x="25" y="5531"/>
                  </a:lnTo>
                  <a:lnTo>
                    <a:pt x="28" y="6108"/>
                  </a:lnTo>
                  <a:lnTo>
                    <a:pt x="31" y="6650"/>
                  </a:lnTo>
                  <a:lnTo>
                    <a:pt x="34" y="7138"/>
                  </a:lnTo>
                  <a:lnTo>
                    <a:pt x="36" y="7558"/>
                  </a:lnTo>
                  <a:lnTo>
                    <a:pt x="39" y="7891"/>
                  </a:lnTo>
                  <a:lnTo>
                    <a:pt x="40" y="8121"/>
                  </a:lnTo>
                  <a:lnTo>
                    <a:pt x="41" y="8232"/>
                  </a:lnTo>
                  <a:lnTo>
                    <a:pt x="41" y="8288"/>
                  </a:lnTo>
                  <a:lnTo>
                    <a:pt x="42" y="8361"/>
                  </a:lnTo>
                  <a:lnTo>
                    <a:pt x="46" y="8450"/>
                  </a:lnTo>
                  <a:lnTo>
                    <a:pt x="57" y="8550"/>
                  </a:lnTo>
                  <a:lnTo>
                    <a:pt x="73" y="8658"/>
                  </a:lnTo>
                  <a:lnTo>
                    <a:pt x="98" y="8773"/>
                  </a:lnTo>
                  <a:lnTo>
                    <a:pt x="135" y="8891"/>
                  </a:lnTo>
                  <a:lnTo>
                    <a:pt x="184" y="9008"/>
                  </a:lnTo>
                  <a:lnTo>
                    <a:pt x="247" y="9123"/>
                  </a:lnTo>
                  <a:lnTo>
                    <a:pt x="326" y="9232"/>
                  </a:lnTo>
                  <a:lnTo>
                    <a:pt x="424" y="9332"/>
                  </a:lnTo>
                  <a:lnTo>
                    <a:pt x="542" y="9420"/>
                  </a:lnTo>
                  <a:lnTo>
                    <a:pt x="681" y="9494"/>
                  </a:lnTo>
                  <a:lnTo>
                    <a:pt x="843" y="9551"/>
                  </a:lnTo>
                  <a:lnTo>
                    <a:pt x="1032" y="9587"/>
                  </a:lnTo>
                  <a:lnTo>
                    <a:pt x="1248" y="9599"/>
                  </a:lnTo>
                  <a:lnTo>
                    <a:pt x="1466" y="9586"/>
                  </a:lnTo>
                  <a:lnTo>
                    <a:pt x="1659" y="9555"/>
                  </a:lnTo>
                  <a:lnTo>
                    <a:pt x="1826" y="9507"/>
                  </a:lnTo>
                  <a:lnTo>
                    <a:pt x="1969" y="9446"/>
                  </a:lnTo>
                  <a:lnTo>
                    <a:pt x="2091" y="9371"/>
                  </a:lnTo>
                  <a:lnTo>
                    <a:pt x="2193" y="9285"/>
                  </a:lnTo>
                  <a:lnTo>
                    <a:pt x="2277" y="9191"/>
                  </a:lnTo>
                  <a:lnTo>
                    <a:pt x="2344" y="9090"/>
                  </a:lnTo>
                  <a:lnTo>
                    <a:pt x="2396" y="8986"/>
                  </a:lnTo>
                  <a:lnTo>
                    <a:pt x="2435" y="8877"/>
                  </a:lnTo>
                  <a:lnTo>
                    <a:pt x="2463" y="8767"/>
                  </a:lnTo>
                  <a:lnTo>
                    <a:pt x="2481" y="8658"/>
                  </a:lnTo>
                  <a:lnTo>
                    <a:pt x="2492" y="8552"/>
                  </a:lnTo>
                  <a:lnTo>
                    <a:pt x="2495" y="8450"/>
                  </a:lnTo>
                  <a:lnTo>
                    <a:pt x="2495" y="8355"/>
                  </a:lnTo>
                  <a:lnTo>
                    <a:pt x="2493" y="8267"/>
                  </a:lnTo>
                  <a:lnTo>
                    <a:pt x="2492" y="8120"/>
                  </a:lnTo>
                  <a:lnTo>
                    <a:pt x="2492" y="7889"/>
                  </a:lnTo>
                  <a:lnTo>
                    <a:pt x="2491" y="7587"/>
                  </a:lnTo>
                  <a:lnTo>
                    <a:pt x="2490" y="7229"/>
                  </a:lnTo>
                  <a:lnTo>
                    <a:pt x="2489" y="6824"/>
                  </a:lnTo>
                  <a:lnTo>
                    <a:pt x="2486" y="6389"/>
                  </a:lnTo>
                  <a:lnTo>
                    <a:pt x="2485" y="5934"/>
                  </a:lnTo>
                  <a:lnTo>
                    <a:pt x="2483" y="5471"/>
                  </a:lnTo>
                  <a:lnTo>
                    <a:pt x="2481" y="5016"/>
                  </a:lnTo>
                  <a:lnTo>
                    <a:pt x="2480" y="4581"/>
                  </a:lnTo>
                  <a:lnTo>
                    <a:pt x="2478" y="4176"/>
                  </a:lnTo>
                  <a:lnTo>
                    <a:pt x="2477" y="3817"/>
                  </a:lnTo>
                  <a:lnTo>
                    <a:pt x="2476" y="3515"/>
                  </a:lnTo>
                  <a:lnTo>
                    <a:pt x="2475" y="3283"/>
                  </a:lnTo>
                  <a:lnTo>
                    <a:pt x="2475" y="3082"/>
                  </a:lnTo>
                  <a:lnTo>
                    <a:pt x="2270" y="3082"/>
                  </a:lnTo>
                  <a:lnTo>
                    <a:pt x="2308" y="8232"/>
                  </a:lnTo>
                  <a:lnTo>
                    <a:pt x="2303" y="8380"/>
                  </a:lnTo>
                  <a:lnTo>
                    <a:pt x="2293" y="8517"/>
                  </a:lnTo>
                  <a:lnTo>
                    <a:pt x="2273" y="8642"/>
                  </a:lnTo>
                  <a:lnTo>
                    <a:pt x="2248" y="8755"/>
                  </a:lnTo>
                  <a:lnTo>
                    <a:pt x="2213" y="8857"/>
                  </a:lnTo>
                  <a:lnTo>
                    <a:pt x="2172" y="8949"/>
                  </a:lnTo>
                  <a:lnTo>
                    <a:pt x="2122" y="9031"/>
                  </a:lnTo>
                  <a:lnTo>
                    <a:pt x="2066" y="9102"/>
                  </a:lnTo>
                  <a:lnTo>
                    <a:pt x="2000" y="9164"/>
                  </a:lnTo>
                  <a:lnTo>
                    <a:pt x="1928" y="9217"/>
                  </a:lnTo>
                  <a:lnTo>
                    <a:pt x="1847" y="9260"/>
                  </a:lnTo>
                  <a:lnTo>
                    <a:pt x="1759" y="9294"/>
                  </a:lnTo>
                  <a:lnTo>
                    <a:pt x="1661" y="9322"/>
                  </a:lnTo>
                  <a:lnTo>
                    <a:pt x="1556" y="9340"/>
                  </a:lnTo>
                  <a:lnTo>
                    <a:pt x="1444" y="9351"/>
                  </a:lnTo>
                  <a:lnTo>
                    <a:pt x="1323" y="9354"/>
                  </a:lnTo>
                  <a:lnTo>
                    <a:pt x="1198" y="9351"/>
                  </a:lnTo>
                  <a:lnTo>
                    <a:pt x="1080" y="9339"/>
                  </a:lnTo>
                  <a:lnTo>
                    <a:pt x="971" y="9320"/>
                  </a:lnTo>
                  <a:lnTo>
                    <a:pt x="869" y="9292"/>
                  </a:lnTo>
                  <a:lnTo>
                    <a:pt x="776" y="9255"/>
                  </a:lnTo>
                  <a:lnTo>
                    <a:pt x="690" y="9211"/>
                  </a:lnTo>
                  <a:lnTo>
                    <a:pt x="613" y="9155"/>
                  </a:lnTo>
                  <a:lnTo>
                    <a:pt x="544" y="9091"/>
                  </a:lnTo>
                  <a:lnTo>
                    <a:pt x="483" y="9018"/>
                  </a:lnTo>
                  <a:lnTo>
                    <a:pt x="429" y="8933"/>
                  </a:lnTo>
                  <a:lnTo>
                    <a:pt x="384" y="8838"/>
                  </a:lnTo>
                  <a:lnTo>
                    <a:pt x="347" y="8733"/>
                  </a:lnTo>
                  <a:lnTo>
                    <a:pt x="318" y="8617"/>
                  </a:lnTo>
                  <a:lnTo>
                    <a:pt x="298" y="8489"/>
                  </a:lnTo>
                  <a:lnTo>
                    <a:pt x="285" y="8350"/>
                  </a:lnTo>
                  <a:lnTo>
                    <a:pt x="281" y="8198"/>
                  </a:lnTo>
                  <a:lnTo>
                    <a:pt x="280" y="7984"/>
                  </a:lnTo>
                  <a:lnTo>
                    <a:pt x="279" y="7666"/>
                  </a:lnTo>
                  <a:lnTo>
                    <a:pt x="277" y="7261"/>
                  </a:lnTo>
                  <a:lnTo>
                    <a:pt x="275" y="6786"/>
                  </a:lnTo>
                  <a:lnTo>
                    <a:pt x="273" y="6257"/>
                  </a:lnTo>
                  <a:lnTo>
                    <a:pt x="270" y="5688"/>
                  </a:lnTo>
                  <a:lnTo>
                    <a:pt x="267" y="5098"/>
                  </a:lnTo>
                  <a:lnTo>
                    <a:pt x="263" y="4502"/>
                  </a:lnTo>
                  <a:lnTo>
                    <a:pt x="259" y="3915"/>
                  </a:lnTo>
                  <a:lnTo>
                    <a:pt x="256" y="3354"/>
                  </a:lnTo>
                  <a:lnTo>
                    <a:pt x="253" y="2835"/>
                  </a:lnTo>
                  <a:lnTo>
                    <a:pt x="250" y="2374"/>
                  </a:lnTo>
                  <a:lnTo>
                    <a:pt x="248" y="1989"/>
                  </a:lnTo>
                  <a:lnTo>
                    <a:pt x="246" y="1692"/>
                  </a:lnTo>
                  <a:lnTo>
                    <a:pt x="245" y="1503"/>
                  </a:lnTo>
                  <a:lnTo>
                    <a:pt x="245" y="1436"/>
                  </a:lnTo>
                  <a:lnTo>
                    <a:pt x="249" y="1247"/>
                  </a:lnTo>
                  <a:lnTo>
                    <a:pt x="262" y="1081"/>
                  </a:lnTo>
                  <a:lnTo>
                    <a:pt x="284" y="934"/>
                  </a:lnTo>
                  <a:lnTo>
                    <a:pt x="311" y="807"/>
                  </a:lnTo>
                  <a:lnTo>
                    <a:pt x="348" y="698"/>
                  </a:lnTo>
                  <a:lnTo>
                    <a:pt x="390" y="605"/>
                  </a:lnTo>
                  <a:lnTo>
                    <a:pt x="438" y="528"/>
                  </a:lnTo>
                  <a:lnTo>
                    <a:pt x="490" y="464"/>
                  </a:lnTo>
                  <a:lnTo>
                    <a:pt x="548" y="413"/>
                  </a:lnTo>
                  <a:lnTo>
                    <a:pt x="611" y="372"/>
                  </a:lnTo>
                  <a:lnTo>
                    <a:pt x="676" y="341"/>
                  </a:lnTo>
                  <a:lnTo>
                    <a:pt x="746" y="318"/>
                  </a:lnTo>
                  <a:lnTo>
                    <a:pt x="818" y="302"/>
                  </a:lnTo>
                  <a:lnTo>
                    <a:pt x="892" y="291"/>
                  </a:lnTo>
                  <a:lnTo>
                    <a:pt x="967" y="285"/>
                  </a:lnTo>
                  <a:lnTo>
                    <a:pt x="1044" y="279"/>
                  </a:lnTo>
                  <a:lnTo>
                    <a:pt x="1142" y="283"/>
                  </a:lnTo>
                  <a:lnTo>
                    <a:pt x="1238" y="292"/>
                  </a:lnTo>
                  <a:lnTo>
                    <a:pt x="1329" y="307"/>
                  </a:lnTo>
                  <a:lnTo>
                    <a:pt x="1416" y="329"/>
                  </a:lnTo>
                  <a:lnTo>
                    <a:pt x="1497" y="357"/>
                  </a:lnTo>
                  <a:lnTo>
                    <a:pt x="1574" y="392"/>
                  </a:lnTo>
                  <a:lnTo>
                    <a:pt x="1645" y="435"/>
                  </a:lnTo>
                  <a:lnTo>
                    <a:pt x="1710" y="484"/>
                  </a:lnTo>
                  <a:lnTo>
                    <a:pt x="1768" y="542"/>
                  </a:lnTo>
                  <a:lnTo>
                    <a:pt x="1821" y="606"/>
                  </a:lnTo>
                  <a:lnTo>
                    <a:pt x="1866" y="680"/>
                  </a:lnTo>
                  <a:lnTo>
                    <a:pt x="1903" y="761"/>
                  </a:lnTo>
                  <a:lnTo>
                    <a:pt x="1933" y="851"/>
                  </a:lnTo>
                  <a:lnTo>
                    <a:pt x="1954" y="949"/>
                  </a:lnTo>
                  <a:lnTo>
                    <a:pt x="1967" y="1057"/>
                  </a:lnTo>
                  <a:lnTo>
                    <a:pt x="1973" y="117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1676520" y="3009960"/>
              <a:ext cx="6094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1752480" y="5562720"/>
              <a:ext cx="838440" cy="8380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23" name=""/>
            <p:cNvGraphicFramePr/>
            <p:nvPr/>
          </p:nvGraphicFramePr>
          <p:xfrm>
            <a:off x="1676520" y="4419720"/>
            <a:ext cx="838080" cy="83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419720"/>
                      <a:ext cx="8380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32B-62F1-47E5-A3C6-5BB6103AE1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S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nsing </a:t>
            </a: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T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hinking At Home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Workbook pag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Making things that can be used at schoo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hores and activities that are very clear, detailed, and step-by-ste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Re-telling stor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Reading non-fiction boo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aving an organized work spa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Immediate, specific prais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0120" y="3352680"/>
            <a:ext cx="685800" cy="2183040"/>
          </a:xfrm>
          <a:custGeom>
            <a:avLst/>
            <a:gdLst/>
            <a:ahLst/>
            <a:rect l="l" t="t" r="r" b="b"/>
            <a:pathLst>
              <a:path w="2591" h="9624">
                <a:moveTo>
                  <a:pt x="2048" y="1176"/>
                </a:moveTo>
                <a:lnTo>
                  <a:pt x="2048" y="1477"/>
                </a:lnTo>
                <a:lnTo>
                  <a:pt x="2050" y="1741"/>
                </a:lnTo>
                <a:lnTo>
                  <a:pt x="2051" y="2065"/>
                </a:lnTo>
                <a:lnTo>
                  <a:pt x="2053" y="2436"/>
                </a:lnTo>
                <a:lnTo>
                  <a:pt x="2054" y="2843"/>
                </a:lnTo>
                <a:lnTo>
                  <a:pt x="2056" y="3274"/>
                </a:lnTo>
                <a:lnTo>
                  <a:pt x="2058" y="3718"/>
                </a:lnTo>
                <a:lnTo>
                  <a:pt x="2060" y="4164"/>
                </a:lnTo>
                <a:lnTo>
                  <a:pt x="2062" y="4597"/>
                </a:lnTo>
                <a:lnTo>
                  <a:pt x="2063" y="5006"/>
                </a:lnTo>
                <a:lnTo>
                  <a:pt x="2065" y="5380"/>
                </a:lnTo>
                <a:lnTo>
                  <a:pt x="2066" y="5707"/>
                </a:lnTo>
                <a:lnTo>
                  <a:pt x="2067" y="5975"/>
                </a:lnTo>
                <a:lnTo>
                  <a:pt x="2067" y="6173"/>
                </a:lnTo>
                <a:lnTo>
                  <a:pt x="2068" y="6287"/>
                </a:lnTo>
                <a:lnTo>
                  <a:pt x="2065" y="6357"/>
                </a:lnTo>
                <a:lnTo>
                  <a:pt x="2058" y="6425"/>
                </a:lnTo>
                <a:lnTo>
                  <a:pt x="2046" y="6494"/>
                </a:lnTo>
                <a:lnTo>
                  <a:pt x="2030" y="6561"/>
                </a:lnTo>
                <a:lnTo>
                  <a:pt x="2006" y="6626"/>
                </a:lnTo>
                <a:lnTo>
                  <a:pt x="1978" y="6688"/>
                </a:lnTo>
                <a:lnTo>
                  <a:pt x="1944" y="6748"/>
                </a:lnTo>
                <a:lnTo>
                  <a:pt x="1904" y="6803"/>
                </a:lnTo>
                <a:lnTo>
                  <a:pt x="1857" y="6854"/>
                </a:lnTo>
                <a:lnTo>
                  <a:pt x="1804" y="6901"/>
                </a:lnTo>
                <a:lnTo>
                  <a:pt x="1744" y="6941"/>
                </a:lnTo>
                <a:lnTo>
                  <a:pt x="1677" y="6976"/>
                </a:lnTo>
                <a:lnTo>
                  <a:pt x="1603" y="7004"/>
                </a:lnTo>
                <a:lnTo>
                  <a:pt x="1521" y="7024"/>
                </a:lnTo>
                <a:lnTo>
                  <a:pt x="1432" y="7037"/>
                </a:lnTo>
                <a:lnTo>
                  <a:pt x="1335" y="7041"/>
                </a:lnTo>
                <a:lnTo>
                  <a:pt x="1214" y="7035"/>
                </a:lnTo>
                <a:lnTo>
                  <a:pt x="1107" y="7016"/>
                </a:lnTo>
                <a:lnTo>
                  <a:pt x="1013" y="6986"/>
                </a:lnTo>
                <a:lnTo>
                  <a:pt x="928" y="6946"/>
                </a:lnTo>
                <a:lnTo>
                  <a:pt x="856" y="6898"/>
                </a:lnTo>
                <a:lnTo>
                  <a:pt x="792" y="6844"/>
                </a:lnTo>
                <a:lnTo>
                  <a:pt x="739" y="6785"/>
                </a:lnTo>
                <a:lnTo>
                  <a:pt x="695" y="6722"/>
                </a:lnTo>
                <a:lnTo>
                  <a:pt x="658" y="6657"/>
                </a:lnTo>
                <a:lnTo>
                  <a:pt x="628" y="6591"/>
                </a:lnTo>
                <a:lnTo>
                  <a:pt x="605" y="6527"/>
                </a:lnTo>
                <a:lnTo>
                  <a:pt x="588" y="6465"/>
                </a:lnTo>
                <a:lnTo>
                  <a:pt x="576" y="6406"/>
                </a:lnTo>
                <a:lnTo>
                  <a:pt x="567" y="6354"/>
                </a:lnTo>
                <a:lnTo>
                  <a:pt x="564" y="6308"/>
                </a:lnTo>
                <a:lnTo>
                  <a:pt x="562" y="6270"/>
                </a:lnTo>
                <a:lnTo>
                  <a:pt x="561" y="6206"/>
                </a:lnTo>
                <a:lnTo>
                  <a:pt x="561" y="6085"/>
                </a:lnTo>
                <a:lnTo>
                  <a:pt x="560" y="5915"/>
                </a:lnTo>
                <a:lnTo>
                  <a:pt x="559" y="5704"/>
                </a:lnTo>
                <a:lnTo>
                  <a:pt x="558" y="5463"/>
                </a:lnTo>
                <a:lnTo>
                  <a:pt x="556" y="5198"/>
                </a:lnTo>
                <a:lnTo>
                  <a:pt x="555" y="4918"/>
                </a:lnTo>
                <a:lnTo>
                  <a:pt x="552" y="4632"/>
                </a:lnTo>
                <a:lnTo>
                  <a:pt x="550" y="4348"/>
                </a:lnTo>
                <a:lnTo>
                  <a:pt x="549" y="4075"/>
                </a:lnTo>
                <a:lnTo>
                  <a:pt x="547" y="3820"/>
                </a:lnTo>
                <a:lnTo>
                  <a:pt x="546" y="3593"/>
                </a:lnTo>
                <a:lnTo>
                  <a:pt x="545" y="3401"/>
                </a:lnTo>
                <a:lnTo>
                  <a:pt x="544" y="3254"/>
                </a:lnTo>
                <a:lnTo>
                  <a:pt x="544" y="3126"/>
                </a:lnTo>
                <a:lnTo>
                  <a:pt x="350" y="3126"/>
                </a:lnTo>
                <a:lnTo>
                  <a:pt x="350" y="3230"/>
                </a:lnTo>
                <a:lnTo>
                  <a:pt x="351" y="3350"/>
                </a:lnTo>
                <a:lnTo>
                  <a:pt x="352" y="3509"/>
                </a:lnTo>
                <a:lnTo>
                  <a:pt x="355" y="3700"/>
                </a:lnTo>
                <a:lnTo>
                  <a:pt x="356" y="3918"/>
                </a:lnTo>
                <a:lnTo>
                  <a:pt x="358" y="4157"/>
                </a:lnTo>
                <a:lnTo>
                  <a:pt x="360" y="4410"/>
                </a:lnTo>
                <a:lnTo>
                  <a:pt x="361" y="4673"/>
                </a:lnTo>
                <a:lnTo>
                  <a:pt x="363" y="4940"/>
                </a:lnTo>
                <a:lnTo>
                  <a:pt x="365" y="5204"/>
                </a:lnTo>
                <a:lnTo>
                  <a:pt x="367" y="5460"/>
                </a:lnTo>
                <a:lnTo>
                  <a:pt x="368" y="5702"/>
                </a:lnTo>
                <a:lnTo>
                  <a:pt x="369" y="5925"/>
                </a:lnTo>
                <a:lnTo>
                  <a:pt x="369" y="6122"/>
                </a:lnTo>
                <a:lnTo>
                  <a:pt x="370" y="6287"/>
                </a:lnTo>
                <a:lnTo>
                  <a:pt x="379" y="6428"/>
                </a:lnTo>
                <a:lnTo>
                  <a:pt x="398" y="6556"/>
                </a:lnTo>
                <a:lnTo>
                  <a:pt x="428" y="6671"/>
                </a:lnTo>
                <a:lnTo>
                  <a:pt x="467" y="6774"/>
                </a:lnTo>
                <a:lnTo>
                  <a:pt x="514" y="6865"/>
                </a:lnTo>
                <a:lnTo>
                  <a:pt x="568" y="6945"/>
                </a:lnTo>
                <a:lnTo>
                  <a:pt x="630" y="7015"/>
                </a:lnTo>
                <a:lnTo>
                  <a:pt x="698" y="7075"/>
                </a:lnTo>
                <a:lnTo>
                  <a:pt x="770" y="7125"/>
                </a:lnTo>
                <a:lnTo>
                  <a:pt x="849" y="7168"/>
                </a:lnTo>
                <a:lnTo>
                  <a:pt x="930" y="7201"/>
                </a:lnTo>
                <a:lnTo>
                  <a:pt x="1016" y="7228"/>
                </a:lnTo>
                <a:lnTo>
                  <a:pt x="1103" y="7248"/>
                </a:lnTo>
                <a:lnTo>
                  <a:pt x="1193" y="7261"/>
                </a:lnTo>
                <a:lnTo>
                  <a:pt x="1283" y="7268"/>
                </a:lnTo>
                <a:lnTo>
                  <a:pt x="1374" y="7270"/>
                </a:lnTo>
                <a:lnTo>
                  <a:pt x="1406" y="7270"/>
                </a:lnTo>
                <a:lnTo>
                  <a:pt x="1450" y="7266"/>
                </a:lnTo>
                <a:lnTo>
                  <a:pt x="1507" y="7260"/>
                </a:lnTo>
                <a:lnTo>
                  <a:pt x="1572" y="7248"/>
                </a:lnTo>
                <a:lnTo>
                  <a:pt x="1643" y="7230"/>
                </a:lnTo>
                <a:lnTo>
                  <a:pt x="1719" y="7205"/>
                </a:lnTo>
                <a:lnTo>
                  <a:pt x="1798" y="7171"/>
                </a:lnTo>
                <a:lnTo>
                  <a:pt x="1877" y="7127"/>
                </a:lnTo>
                <a:lnTo>
                  <a:pt x="1955" y="7074"/>
                </a:lnTo>
                <a:lnTo>
                  <a:pt x="2028" y="7007"/>
                </a:lnTo>
                <a:lnTo>
                  <a:pt x="2097" y="6928"/>
                </a:lnTo>
                <a:lnTo>
                  <a:pt x="2157" y="6833"/>
                </a:lnTo>
                <a:lnTo>
                  <a:pt x="2209" y="6724"/>
                </a:lnTo>
                <a:lnTo>
                  <a:pt x="2246" y="6596"/>
                </a:lnTo>
                <a:lnTo>
                  <a:pt x="2272" y="6452"/>
                </a:lnTo>
                <a:lnTo>
                  <a:pt x="2281" y="6287"/>
                </a:lnTo>
                <a:lnTo>
                  <a:pt x="2276" y="6138"/>
                </a:lnTo>
                <a:lnTo>
                  <a:pt x="2273" y="5917"/>
                </a:lnTo>
                <a:lnTo>
                  <a:pt x="2270" y="5632"/>
                </a:lnTo>
                <a:lnTo>
                  <a:pt x="2265" y="5297"/>
                </a:lnTo>
                <a:lnTo>
                  <a:pt x="2262" y="4920"/>
                </a:lnTo>
                <a:lnTo>
                  <a:pt x="2260" y="4514"/>
                </a:lnTo>
                <a:lnTo>
                  <a:pt x="2256" y="4089"/>
                </a:lnTo>
                <a:lnTo>
                  <a:pt x="2253" y="3655"/>
                </a:lnTo>
                <a:lnTo>
                  <a:pt x="2251" y="3224"/>
                </a:lnTo>
                <a:lnTo>
                  <a:pt x="2249" y="2807"/>
                </a:lnTo>
                <a:lnTo>
                  <a:pt x="2246" y="2415"/>
                </a:lnTo>
                <a:lnTo>
                  <a:pt x="2244" y="2057"/>
                </a:lnTo>
                <a:lnTo>
                  <a:pt x="2243" y="1745"/>
                </a:lnTo>
                <a:lnTo>
                  <a:pt x="2242" y="1490"/>
                </a:lnTo>
                <a:lnTo>
                  <a:pt x="2242" y="1194"/>
                </a:lnTo>
                <a:lnTo>
                  <a:pt x="2233" y="1016"/>
                </a:lnTo>
                <a:lnTo>
                  <a:pt x="2210" y="856"/>
                </a:lnTo>
                <a:lnTo>
                  <a:pt x="2173" y="712"/>
                </a:lnTo>
                <a:lnTo>
                  <a:pt x="2123" y="586"/>
                </a:lnTo>
                <a:lnTo>
                  <a:pt x="2063" y="474"/>
                </a:lnTo>
                <a:lnTo>
                  <a:pt x="1994" y="377"/>
                </a:lnTo>
                <a:lnTo>
                  <a:pt x="1916" y="293"/>
                </a:lnTo>
                <a:lnTo>
                  <a:pt x="1834" y="223"/>
                </a:lnTo>
                <a:lnTo>
                  <a:pt x="1745" y="163"/>
                </a:lnTo>
                <a:lnTo>
                  <a:pt x="1654" y="114"/>
                </a:lnTo>
                <a:lnTo>
                  <a:pt x="1561" y="76"/>
                </a:lnTo>
                <a:lnTo>
                  <a:pt x="1467" y="47"/>
                </a:lnTo>
                <a:lnTo>
                  <a:pt x="1376" y="25"/>
                </a:lnTo>
                <a:lnTo>
                  <a:pt x="1286" y="11"/>
                </a:lnTo>
                <a:lnTo>
                  <a:pt x="1202" y="3"/>
                </a:lnTo>
                <a:lnTo>
                  <a:pt x="1123" y="0"/>
                </a:lnTo>
                <a:lnTo>
                  <a:pt x="931" y="9"/>
                </a:lnTo>
                <a:lnTo>
                  <a:pt x="762" y="35"/>
                </a:lnTo>
                <a:lnTo>
                  <a:pt x="616" y="76"/>
                </a:lnTo>
                <a:lnTo>
                  <a:pt x="489" y="132"/>
                </a:lnTo>
                <a:lnTo>
                  <a:pt x="380" y="200"/>
                </a:lnTo>
                <a:lnTo>
                  <a:pt x="288" y="280"/>
                </a:lnTo>
                <a:lnTo>
                  <a:pt x="212" y="370"/>
                </a:lnTo>
                <a:lnTo>
                  <a:pt x="150" y="470"/>
                </a:lnTo>
                <a:lnTo>
                  <a:pt x="101" y="578"/>
                </a:lnTo>
                <a:lnTo>
                  <a:pt x="63" y="692"/>
                </a:lnTo>
                <a:lnTo>
                  <a:pt x="37" y="810"/>
                </a:lnTo>
                <a:lnTo>
                  <a:pt x="18" y="934"/>
                </a:lnTo>
                <a:lnTo>
                  <a:pt x="7" y="1059"/>
                </a:lnTo>
                <a:lnTo>
                  <a:pt x="1" y="1187"/>
                </a:lnTo>
                <a:lnTo>
                  <a:pt x="0" y="1314"/>
                </a:lnTo>
                <a:lnTo>
                  <a:pt x="3" y="1439"/>
                </a:lnTo>
                <a:lnTo>
                  <a:pt x="3" y="1598"/>
                </a:lnTo>
                <a:lnTo>
                  <a:pt x="4" y="1869"/>
                </a:lnTo>
                <a:lnTo>
                  <a:pt x="7" y="2237"/>
                </a:lnTo>
                <a:lnTo>
                  <a:pt x="9" y="2685"/>
                </a:lnTo>
                <a:lnTo>
                  <a:pt x="12" y="3197"/>
                </a:lnTo>
                <a:lnTo>
                  <a:pt x="16" y="3755"/>
                </a:lnTo>
                <a:lnTo>
                  <a:pt x="19" y="4344"/>
                </a:lnTo>
                <a:lnTo>
                  <a:pt x="22" y="4946"/>
                </a:lnTo>
                <a:lnTo>
                  <a:pt x="26" y="5545"/>
                </a:lnTo>
                <a:lnTo>
                  <a:pt x="29" y="6124"/>
                </a:lnTo>
                <a:lnTo>
                  <a:pt x="32" y="6667"/>
                </a:lnTo>
                <a:lnTo>
                  <a:pt x="36" y="7157"/>
                </a:lnTo>
                <a:lnTo>
                  <a:pt x="38" y="7578"/>
                </a:lnTo>
                <a:lnTo>
                  <a:pt x="40" y="7911"/>
                </a:lnTo>
                <a:lnTo>
                  <a:pt x="41" y="8142"/>
                </a:lnTo>
                <a:lnTo>
                  <a:pt x="42" y="8253"/>
                </a:lnTo>
                <a:lnTo>
                  <a:pt x="42" y="8310"/>
                </a:lnTo>
                <a:lnTo>
                  <a:pt x="43" y="8383"/>
                </a:lnTo>
                <a:lnTo>
                  <a:pt x="48" y="8472"/>
                </a:lnTo>
                <a:lnTo>
                  <a:pt x="59" y="8572"/>
                </a:lnTo>
                <a:lnTo>
                  <a:pt x="76" y="8680"/>
                </a:lnTo>
                <a:lnTo>
                  <a:pt x="102" y="8796"/>
                </a:lnTo>
                <a:lnTo>
                  <a:pt x="140" y="8914"/>
                </a:lnTo>
                <a:lnTo>
                  <a:pt x="191" y="9031"/>
                </a:lnTo>
                <a:lnTo>
                  <a:pt x="257" y="9147"/>
                </a:lnTo>
                <a:lnTo>
                  <a:pt x="339" y="9256"/>
                </a:lnTo>
                <a:lnTo>
                  <a:pt x="440" y="9356"/>
                </a:lnTo>
                <a:lnTo>
                  <a:pt x="562" y="9445"/>
                </a:lnTo>
                <a:lnTo>
                  <a:pt x="707" y="9519"/>
                </a:lnTo>
                <a:lnTo>
                  <a:pt x="876" y="9575"/>
                </a:lnTo>
                <a:lnTo>
                  <a:pt x="1071" y="9612"/>
                </a:lnTo>
                <a:lnTo>
                  <a:pt x="1296" y="9624"/>
                </a:lnTo>
                <a:lnTo>
                  <a:pt x="1523" y="9611"/>
                </a:lnTo>
                <a:lnTo>
                  <a:pt x="1723" y="9579"/>
                </a:lnTo>
                <a:lnTo>
                  <a:pt x="1896" y="9532"/>
                </a:lnTo>
                <a:lnTo>
                  <a:pt x="2045" y="9470"/>
                </a:lnTo>
                <a:lnTo>
                  <a:pt x="2172" y="9395"/>
                </a:lnTo>
                <a:lnTo>
                  <a:pt x="2277" y="9309"/>
                </a:lnTo>
                <a:lnTo>
                  <a:pt x="2364" y="9215"/>
                </a:lnTo>
                <a:lnTo>
                  <a:pt x="2434" y="9114"/>
                </a:lnTo>
                <a:lnTo>
                  <a:pt x="2489" y="9009"/>
                </a:lnTo>
                <a:lnTo>
                  <a:pt x="2529" y="8900"/>
                </a:lnTo>
                <a:lnTo>
                  <a:pt x="2558" y="8789"/>
                </a:lnTo>
                <a:lnTo>
                  <a:pt x="2576" y="8680"/>
                </a:lnTo>
                <a:lnTo>
                  <a:pt x="2588" y="8574"/>
                </a:lnTo>
                <a:lnTo>
                  <a:pt x="2591" y="8472"/>
                </a:lnTo>
                <a:lnTo>
                  <a:pt x="2591" y="8377"/>
                </a:lnTo>
                <a:lnTo>
                  <a:pt x="2589" y="8289"/>
                </a:lnTo>
                <a:lnTo>
                  <a:pt x="2588" y="8141"/>
                </a:lnTo>
                <a:lnTo>
                  <a:pt x="2588" y="7909"/>
                </a:lnTo>
                <a:lnTo>
                  <a:pt x="2586" y="7607"/>
                </a:lnTo>
                <a:lnTo>
                  <a:pt x="2585" y="7248"/>
                </a:lnTo>
                <a:lnTo>
                  <a:pt x="2584" y="6842"/>
                </a:lnTo>
                <a:lnTo>
                  <a:pt x="2582" y="6405"/>
                </a:lnTo>
                <a:lnTo>
                  <a:pt x="2581" y="5949"/>
                </a:lnTo>
                <a:lnTo>
                  <a:pt x="2579" y="5486"/>
                </a:lnTo>
                <a:lnTo>
                  <a:pt x="2576" y="5029"/>
                </a:lnTo>
                <a:lnTo>
                  <a:pt x="2575" y="4592"/>
                </a:lnTo>
                <a:lnTo>
                  <a:pt x="2573" y="4187"/>
                </a:lnTo>
                <a:lnTo>
                  <a:pt x="2572" y="3827"/>
                </a:lnTo>
                <a:lnTo>
                  <a:pt x="2571" y="3524"/>
                </a:lnTo>
                <a:lnTo>
                  <a:pt x="2570" y="3292"/>
                </a:lnTo>
                <a:lnTo>
                  <a:pt x="2570" y="3090"/>
                </a:lnTo>
                <a:lnTo>
                  <a:pt x="2357" y="3090"/>
                </a:lnTo>
                <a:lnTo>
                  <a:pt x="2396" y="8253"/>
                </a:lnTo>
                <a:lnTo>
                  <a:pt x="2392" y="8402"/>
                </a:lnTo>
                <a:lnTo>
                  <a:pt x="2381" y="8540"/>
                </a:lnTo>
                <a:lnTo>
                  <a:pt x="2361" y="8664"/>
                </a:lnTo>
                <a:lnTo>
                  <a:pt x="2334" y="8777"/>
                </a:lnTo>
                <a:lnTo>
                  <a:pt x="2299" y="8880"/>
                </a:lnTo>
                <a:lnTo>
                  <a:pt x="2255" y="8973"/>
                </a:lnTo>
                <a:lnTo>
                  <a:pt x="2204" y="9054"/>
                </a:lnTo>
                <a:lnTo>
                  <a:pt x="2145" y="9125"/>
                </a:lnTo>
                <a:lnTo>
                  <a:pt x="2077" y="9188"/>
                </a:lnTo>
                <a:lnTo>
                  <a:pt x="2002" y="9241"/>
                </a:lnTo>
                <a:lnTo>
                  <a:pt x="1918" y="9284"/>
                </a:lnTo>
                <a:lnTo>
                  <a:pt x="1826" y="9318"/>
                </a:lnTo>
                <a:lnTo>
                  <a:pt x="1725" y="9346"/>
                </a:lnTo>
                <a:lnTo>
                  <a:pt x="1616" y="9364"/>
                </a:lnTo>
                <a:lnTo>
                  <a:pt x="1499" y="9375"/>
                </a:lnTo>
                <a:lnTo>
                  <a:pt x="1374" y="9378"/>
                </a:lnTo>
                <a:lnTo>
                  <a:pt x="1244" y="9375"/>
                </a:lnTo>
                <a:lnTo>
                  <a:pt x="1121" y="9363"/>
                </a:lnTo>
                <a:lnTo>
                  <a:pt x="1008" y="9344"/>
                </a:lnTo>
                <a:lnTo>
                  <a:pt x="903" y="9316"/>
                </a:lnTo>
                <a:lnTo>
                  <a:pt x="806" y="9279"/>
                </a:lnTo>
                <a:lnTo>
                  <a:pt x="717" y="9235"/>
                </a:lnTo>
                <a:lnTo>
                  <a:pt x="637" y="9179"/>
                </a:lnTo>
                <a:lnTo>
                  <a:pt x="565" y="9115"/>
                </a:lnTo>
                <a:lnTo>
                  <a:pt x="501" y="9041"/>
                </a:lnTo>
                <a:lnTo>
                  <a:pt x="446" y="8956"/>
                </a:lnTo>
                <a:lnTo>
                  <a:pt x="399" y="8861"/>
                </a:lnTo>
                <a:lnTo>
                  <a:pt x="360" y="8756"/>
                </a:lnTo>
                <a:lnTo>
                  <a:pt x="330" y="8640"/>
                </a:lnTo>
                <a:lnTo>
                  <a:pt x="309" y="8511"/>
                </a:lnTo>
                <a:lnTo>
                  <a:pt x="296" y="8372"/>
                </a:lnTo>
                <a:lnTo>
                  <a:pt x="292" y="8219"/>
                </a:lnTo>
                <a:lnTo>
                  <a:pt x="291" y="8004"/>
                </a:lnTo>
                <a:lnTo>
                  <a:pt x="290" y="7686"/>
                </a:lnTo>
                <a:lnTo>
                  <a:pt x="288" y="7280"/>
                </a:lnTo>
                <a:lnTo>
                  <a:pt x="286" y="6804"/>
                </a:lnTo>
                <a:lnTo>
                  <a:pt x="283" y="6274"/>
                </a:lnTo>
                <a:lnTo>
                  <a:pt x="280" y="5703"/>
                </a:lnTo>
                <a:lnTo>
                  <a:pt x="277" y="5111"/>
                </a:lnTo>
                <a:lnTo>
                  <a:pt x="273" y="4514"/>
                </a:lnTo>
                <a:lnTo>
                  <a:pt x="269" y="3925"/>
                </a:lnTo>
                <a:lnTo>
                  <a:pt x="266" y="3362"/>
                </a:lnTo>
                <a:lnTo>
                  <a:pt x="262" y="2842"/>
                </a:lnTo>
                <a:lnTo>
                  <a:pt x="260" y="2380"/>
                </a:lnTo>
                <a:lnTo>
                  <a:pt x="258" y="1994"/>
                </a:lnTo>
                <a:lnTo>
                  <a:pt x="256" y="1696"/>
                </a:lnTo>
                <a:lnTo>
                  <a:pt x="255" y="1507"/>
                </a:lnTo>
                <a:lnTo>
                  <a:pt x="255" y="1439"/>
                </a:lnTo>
                <a:lnTo>
                  <a:pt x="259" y="1250"/>
                </a:lnTo>
                <a:lnTo>
                  <a:pt x="272" y="1083"/>
                </a:lnTo>
                <a:lnTo>
                  <a:pt x="295" y="937"/>
                </a:lnTo>
                <a:lnTo>
                  <a:pt x="323" y="809"/>
                </a:lnTo>
                <a:lnTo>
                  <a:pt x="361" y="700"/>
                </a:lnTo>
                <a:lnTo>
                  <a:pt x="405" y="607"/>
                </a:lnTo>
                <a:lnTo>
                  <a:pt x="455" y="529"/>
                </a:lnTo>
                <a:lnTo>
                  <a:pt x="509" y="465"/>
                </a:lnTo>
                <a:lnTo>
                  <a:pt x="569" y="414"/>
                </a:lnTo>
                <a:lnTo>
                  <a:pt x="635" y="373"/>
                </a:lnTo>
                <a:lnTo>
                  <a:pt x="702" y="342"/>
                </a:lnTo>
                <a:lnTo>
                  <a:pt x="775" y="319"/>
                </a:lnTo>
                <a:lnTo>
                  <a:pt x="849" y="302"/>
                </a:lnTo>
                <a:lnTo>
                  <a:pt x="926" y="291"/>
                </a:lnTo>
                <a:lnTo>
                  <a:pt x="1004" y="285"/>
                </a:lnTo>
                <a:lnTo>
                  <a:pt x="1084" y="280"/>
                </a:lnTo>
                <a:lnTo>
                  <a:pt x="1186" y="283"/>
                </a:lnTo>
                <a:lnTo>
                  <a:pt x="1286" y="292"/>
                </a:lnTo>
                <a:lnTo>
                  <a:pt x="1380" y="308"/>
                </a:lnTo>
                <a:lnTo>
                  <a:pt x="1471" y="330"/>
                </a:lnTo>
                <a:lnTo>
                  <a:pt x="1555" y="358"/>
                </a:lnTo>
                <a:lnTo>
                  <a:pt x="1635" y="393"/>
                </a:lnTo>
                <a:lnTo>
                  <a:pt x="1708" y="436"/>
                </a:lnTo>
                <a:lnTo>
                  <a:pt x="1776" y="486"/>
                </a:lnTo>
                <a:lnTo>
                  <a:pt x="1836" y="543"/>
                </a:lnTo>
                <a:lnTo>
                  <a:pt x="1891" y="608"/>
                </a:lnTo>
                <a:lnTo>
                  <a:pt x="1937" y="682"/>
                </a:lnTo>
                <a:lnTo>
                  <a:pt x="1976" y="763"/>
                </a:lnTo>
                <a:lnTo>
                  <a:pt x="2007" y="853"/>
                </a:lnTo>
                <a:lnTo>
                  <a:pt x="2030" y="952"/>
                </a:lnTo>
                <a:lnTo>
                  <a:pt x="2043" y="1060"/>
                </a:lnTo>
                <a:lnTo>
                  <a:pt x="2048" y="117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CBC3-C3BD-4CD4-985C-020CE4BBF3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I</a:t>
            </a: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tuitive </a:t>
            </a: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T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hinking At Home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Explaining preferences and how things work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ollecting, analyzing, and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evaluating thin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Working alone on chosen activ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Puzzles, logic problems, brain teas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Mystery, history, and science games and boo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Debating and arguing open-ended topic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Figuring out cause and eff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81680" y="1676520"/>
            <a:ext cx="121932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4D7E-BA04-4062-9D75-8A7E1E905F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I</a:t>
            </a: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tuitive </a:t>
            </a: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F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eling At Home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Expression through a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ow to improve someth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aving a lot of items/resources to u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cience fiction, fantasy, and artistic games and boo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Drama, plays, son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Flexible time schedules and choi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Discussing personal and social topic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629400" y="1295280"/>
            <a:ext cx="200016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54B-E0DC-49F8-9444-5055C473A3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S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nsing </a:t>
            </a: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F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eling At Home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haring and talking about personal experiences; role play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elping and taking car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of others, pets, siblin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Being and working with oth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Interpersonal, dramatic books, games, and pla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Art and other creative activ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armonious, compassionate environ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Journals and diar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705720" y="1752480"/>
            <a:ext cx="1299960" cy="13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0D9-867F-44FF-B91F-ECFA070399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ensing Thinking (ST):  WHA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ntuitive Thinking (NT):  WH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ntuitive Feeling (NF):  WHAT IF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ensing Feeling (SF):  WHAT DOES IT MEAN TO M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934320" y="1447920"/>
            <a:ext cx="1523880" cy="4190760"/>
            <a:chOff x="6934320" y="1447920"/>
            <a:chExt cx="1523880" cy="4190760"/>
          </a:xfrm>
        </p:grpSpPr>
        <p:sp>
          <p:nvSpPr>
            <p:cNvPr id="140" name=""/>
            <p:cNvSpPr/>
            <p:nvPr/>
          </p:nvSpPr>
          <p:spPr>
            <a:xfrm>
              <a:off x="7543800" y="1447920"/>
              <a:ext cx="304920" cy="761760"/>
            </a:xfrm>
            <a:custGeom>
              <a:avLst/>
              <a:gdLst/>
              <a:ahLst/>
              <a:rect l="l" t="t" r="r" b="b"/>
              <a:pathLst>
                <a:path w="2495" h="9599">
                  <a:moveTo>
                    <a:pt x="1973" y="1173"/>
                  </a:moveTo>
                  <a:lnTo>
                    <a:pt x="1973" y="1473"/>
                  </a:lnTo>
                  <a:lnTo>
                    <a:pt x="1974" y="1736"/>
                  </a:lnTo>
                  <a:lnTo>
                    <a:pt x="1975" y="2059"/>
                  </a:lnTo>
                  <a:lnTo>
                    <a:pt x="1977" y="2430"/>
                  </a:lnTo>
                  <a:lnTo>
                    <a:pt x="1978" y="2836"/>
                  </a:lnTo>
                  <a:lnTo>
                    <a:pt x="1980" y="3266"/>
                  </a:lnTo>
                  <a:lnTo>
                    <a:pt x="1982" y="3709"/>
                  </a:lnTo>
                  <a:lnTo>
                    <a:pt x="1983" y="4153"/>
                  </a:lnTo>
                  <a:lnTo>
                    <a:pt x="1985" y="4585"/>
                  </a:lnTo>
                  <a:lnTo>
                    <a:pt x="1987" y="4993"/>
                  </a:lnTo>
                  <a:lnTo>
                    <a:pt x="1989" y="5367"/>
                  </a:lnTo>
                  <a:lnTo>
                    <a:pt x="1990" y="5692"/>
                  </a:lnTo>
                  <a:lnTo>
                    <a:pt x="1991" y="5960"/>
                  </a:lnTo>
                  <a:lnTo>
                    <a:pt x="1991" y="6157"/>
                  </a:lnTo>
                  <a:lnTo>
                    <a:pt x="1992" y="6271"/>
                  </a:lnTo>
                  <a:lnTo>
                    <a:pt x="1989" y="6340"/>
                  </a:lnTo>
                  <a:lnTo>
                    <a:pt x="1982" y="6409"/>
                  </a:lnTo>
                  <a:lnTo>
                    <a:pt x="1970" y="6477"/>
                  </a:lnTo>
                  <a:lnTo>
                    <a:pt x="1954" y="6544"/>
                  </a:lnTo>
                  <a:lnTo>
                    <a:pt x="1932" y="6609"/>
                  </a:lnTo>
                  <a:lnTo>
                    <a:pt x="1905" y="6671"/>
                  </a:lnTo>
                  <a:lnTo>
                    <a:pt x="1872" y="6731"/>
                  </a:lnTo>
                  <a:lnTo>
                    <a:pt x="1833" y="6785"/>
                  </a:lnTo>
                  <a:lnTo>
                    <a:pt x="1789" y="6837"/>
                  </a:lnTo>
                  <a:lnTo>
                    <a:pt x="1737" y="6883"/>
                  </a:lnTo>
                  <a:lnTo>
                    <a:pt x="1679" y="6923"/>
                  </a:lnTo>
                  <a:lnTo>
                    <a:pt x="1615" y="6958"/>
                  </a:lnTo>
                  <a:lnTo>
                    <a:pt x="1543" y="6986"/>
                  </a:lnTo>
                  <a:lnTo>
                    <a:pt x="1464" y="7006"/>
                  </a:lnTo>
                  <a:lnTo>
                    <a:pt x="1379" y="7019"/>
                  </a:lnTo>
                  <a:lnTo>
                    <a:pt x="1285" y="7023"/>
                  </a:lnTo>
                  <a:lnTo>
                    <a:pt x="1169" y="7017"/>
                  </a:lnTo>
                  <a:lnTo>
                    <a:pt x="1066" y="6998"/>
                  </a:lnTo>
                  <a:lnTo>
                    <a:pt x="975" y="6968"/>
                  </a:lnTo>
                  <a:lnTo>
                    <a:pt x="894" y="6928"/>
                  </a:lnTo>
                  <a:lnTo>
                    <a:pt x="824" y="6880"/>
                  </a:lnTo>
                  <a:lnTo>
                    <a:pt x="763" y="6826"/>
                  </a:lnTo>
                  <a:lnTo>
                    <a:pt x="712" y="6767"/>
                  </a:lnTo>
                  <a:lnTo>
                    <a:pt x="669" y="6704"/>
                  </a:lnTo>
                  <a:lnTo>
                    <a:pt x="634" y="6640"/>
                  </a:lnTo>
                  <a:lnTo>
                    <a:pt x="605" y="6574"/>
                  </a:lnTo>
                  <a:lnTo>
                    <a:pt x="582" y="6510"/>
                  </a:lnTo>
                  <a:lnTo>
                    <a:pt x="566" y="6448"/>
                  </a:lnTo>
                  <a:lnTo>
                    <a:pt x="554" y="6390"/>
                  </a:lnTo>
                  <a:lnTo>
                    <a:pt x="546" y="6337"/>
                  </a:lnTo>
                  <a:lnTo>
                    <a:pt x="543" y="6292"/>
                  </a:lnTo>
                  <a:lnTo>
                    <a:pt x="542" y="6253"/>
                  </a:lnTo>
                  <a:lnTo>
                    <a:pt x="541" y="6190"/>
                  </a:lnTo>
                  <a:lnTo>
                    <a:pt x="541" y="6069"/>
                  </a:lnTo>
                  <a:lnTo>
                    <a:pt x="539" y="5899"/>
                  </a:lnTo>
                  <a:lnTo>
                    <a:pt x="538" y="5689"/>
                  </a:lnTo>
                  <a:lnTo>
                    <a:pt x="537" y="5449"/>
                  </a:lnTo>
                  <a:lnTo>
                    <a:pt x="535" y="5185"/>
                  </a:lnTo>
                  <a:lnTo>
                    <a:pt x="534" y="4905"/>
                  </a:lnTo>
                  <a:lnTo>
                    <a:pt x="532" y="4620"/>
                  </a:lnTo>
                  <a:lnTo>
                    <a:pt x="530" y="4336"/>
                  </a:lnTo>
                  <a:lnTo>
                    <a:pt x="529" y="4064"/>
                  </a:lnTo>
                  <a:lnTo>
                    <a:pt x="527" y="3810"/>
                  </a:lnTo>
                  <a:lnTo>
                    <a:pt x="526" y="3584"/>
                  </a:lnTo>
                  <a:lnTo>
                    <a:pt x="524" y="3392"/>
                  </a:lnTo>
                  <a:lnTo>
                    <a:pt x="523" y="3246"/>
                  </a:lnTo>
                  <a:lnTo>
                    <a:pt x="523" y="3118"/>
                  </a:lnTo>
                  <a:lnTo>
                    <a:pt x="337" y="3118"/>
                  </a:lnTo>
                  <a:lnTo>
                    <a:pt x="337" y="3222"/>
                  </a:lnTo>
                  <a:lnTo>
                    <a:pt x="338" y="3342"/>
                  </a:lnTo>
                  <a:lnTo>
                    <a:pt x="339" y="3500"/>
                  </a:lnTo>
                  <a:lnTo>
                    <a:pt x="341" y="3691"/>
                  </a:lnTo>
                  <a:lnTo>
                    <a:pt x="343" y="3908"/>
                  </a:lnTo>
                  <a:lnTo>
                    <a:pt x="345" y="4146"/>
                  </a:lnTo>
                  <a:lnTo>
                    <a:pt x="347" y="4399"/>
                  </a:lnTo>
                  <a:lnTo>
                    <a:pt x="348" y="4661"/>
                  </a:lnTo>
                  <a:lnTo>
                    <a:pt x="350" y="4928"/>
                  </a:lnTo>
                  <a:lnTo>
                    <a:pt x="351" y="5191"/>
                  </a:lnTo>
                  <a:lnTo>
                    <a:pt x="353" y="5446"/>
                  </a:lnTo>
                  <a:lnTo>
                    <a:pt x="354" y="5687"/>
                  </a:lnTo>
                  <a:lnTo>
                    <a:pt x="355" y="5909"/>
                  </a:lnTo>
                  <a:lnTo>
                    <a:pt x="355" y="6106"/>
                  </a:lnTo>
                  <a:lnTo>
                    <a:pt x="356" y="6271"/>
                  </a:lnTo>
                  <a:lnTo>
                    <a:pt x="365" y="6412"/>
                  </a:lnTo>
                  <a:lnTo>
                    <a:pt x="383" y="6539"/>
                  </a:lnTo>
                  <a:lnTo>
                    <a:pt x="412" y="6654"/>
                  </a:lnTo>
                  <a:lnTo>
                    <a:pt x="450" y="6757"/>
                  </a:lnTo>
                  <a:lnTo>
                    <a:pt x="494" y="6848"/>
                  </a:lnTo>
                  <a:lnTo>
                    <a:pt x="547" y="6927"/>
                  </a:lnTo>
                  <a:lnTo>
                    <a:pt x="607" y="6997"/>
                  </a:lnTo>
                  <a:lnTo>
                    <a:pt x="672" y="7056"/>
                  </a:lnTo>
                  <a:lnTo>
                    <a:pt x="742" y="7107"/>
                  </a:lnTo>
                  <a:lnTo>
                    <a:pt x="818" y="7149"/>
                  </a:lnTo>
                  <a:lnTo>
                    <a:pt x="896" y="7183"/>
                  </a:lnTo>
                  <a:lnTo>
                    <a:pt x="978" y="7209"/>
                  </a:lnTo>
                  <a:lnTo>
                    <a:pt x="1062" y="7229"/>
                  </a:lnTo>
                  <a:lnTo>
                    <a:pt x="1148" y="7242"/>
                  </a:lnTo>
                  <a:lnTo>
                    <a:pt x="1235" y="7249"/>
                  </a:lnTo>
                  <a:lnTo>
                    <a:pt x="1323" y="7251"/>
                  </a:lnTo>
                  <a:lnTo>
                    <a:pt x="1354" y="7251"/>
                  </a:lnTo>
                  <a:lnTo>
                    <a:pt x="1397" y="7247"/>
                  </a:lnTo>
                  <a:lnTo>
                    <a:pt x="1451" y="7241"/>
                  </a:lnTo>
                  <a:lnTo>
                    <a:pt x="1513" y="7229"/>
                  </a:lnTo>
                  <a:lnTo>
                    <a:pt x="1582" y="7211"/>
                  </a:lnTo>
                  <a:lnTo>
                    <a:pt x="1656" y="7187"/>
                  </a:lnTo>
                  <a:lnTo>
                    <a:pt x="1732" y="7152"/>
                  </a:lnTo>
                  <a:lnTo>
                    <a:pt x="1808" y="7109"/>
                  </a:lnTo>
                  <a:lnTo>
                    <a:pt x="1883" y="7055"/>
                  </a:lnTo>
                  <a:lnTo>
                    <a:pt x="1953" y="6989"/>
                  </a:lnTo>
                  <a:lnTo>
                    <a:pt x="2020" y="6910"/>
                  </a:lnTo>
                  <a:lnTo>
                    <a:pt x="2078" y="6815"/>
                  </a:lnTo>
                  <a:lnTo>
                    <a:pt x="2127" y="6706"/>
                  </a:lnTo>
                  <a:lnTo>
                    <a:pt x="2163" y="6579"/>
                  </a:lnTo>
                  <a:lnTo>
                    <a:pt x="2188" y="6435"/>
                  </a:lnTo>
                  <a:lnTo>
                    <a:pt x="2196" y="6271"/>
                  </a:lnTo>
                  <a:lnTo>
                    <a:pt x="2192" y="6122"/>
                  </a:lnTo>
                  <a:lnTo>
                    <a:pt x="2189" y="5901"/>
                  </a:lnTo>
                  <a:lnTo>
                    <a:pt x="2186" y="5618"/>
                  </a:lnTo>
                  <a:lnTo>
                    <a:pt x="2181" y="5283"/>
                  </a:lnTo>
                  <a:lnTo>
                    <a:pt x="2178" y="4907"/>
                  </a:lnTo>
                  <a:lnTo>
                    <a:pt x="2176" y="4502"/>
                  </a:lnTo>
                  <a:lnTo>
                    <a:pt x="2173" y="4078"/>
                  </a:lnTo>
                  <a:lnTo>
                    <a:pt x="2170" y="3645"/>
                  </a:lnTo>
                  <a:lnTo>
                    <a:pt x="2167" y="3215"/>
                  </a:lnTo>
                  <a:lnTo>
                    <a:pt x="2165" y="2800"/>
                  </a:lnTo>
                  <a:lnTo>
                    <a:pt x="2163" y="2408"/>
                  </a:lnTo>
                  <a:lnTo>
                    <a:pt x="2161" y="2051"/>
                  </a:lnTo>
                  <a:lnTo>
                    <a:pt x="2160" y="1740"/>
                  </a:lnTo>
                  <a:lnTo>
                    <a:pt x="2159" y="1486"/>
                  </a:lnTo>
                  <a:lnTo>
                    <a:pt x="2159" y="1191"/>
                  </a:lnTo>
                  <a:lnTo>
                    <a:pt x="2150" y="1013"/>
                  </a:lnTo>
                  <a:lnTo>
                    <a:pt x="2128" y="854"/>
                  </a:lnTo>
                  <a:lnTo>
                    <a:pt x="2092" y="710"/>
                  </a:lnTo>
                  <a:lnTo>
                    <a:pt x="2044" y="584"/>
                  </a:lnTo>
                  <a:lnTo>
                    <a:pt x="1987" y="473"/>
                  </a:lnTo>
                  <a:lnTo>
                    <a:pt x="1920" y="376"/>
                  </a:lnTo>
                  <a:lnTo>
                    <a:pt x="1845" y="293"/>
                  </a:lnTo>
                  <a:lnTo>
                    <a:pt x="1766" y="222"/>
                  </a:lnTo>
                  <a:lnTo>
                    <a:pt x="1680" y="162"/>
                  </a:lnTo>
                  <a:lnTo>
                    <a:pt x="1593" y="114"/>
                  </a:lnTo>
                  <a:lnTo>
                    <a:pt x="1503" y="76"/>
                  </a:lnTo>
                  <a:lnTo>
                    <a:pt x="1413" y="46"/>
                  </a:lnTo>
                  <a:lnTo>
                    <a:pt x="1325" y="25"/>
                  </a:lnTo>
                  <a:lnTo>
                    <a:pt x="1238" y="11"/>
                  </a:lnTo>
                  <a:lnTo>
                    <a:pt x="1157" y="3"/>
                  </a:lnTo>
                  <a:lnTo>
                    <a:pt x="1081" y="0"/>
                  </a:lnTo>
                  <a:lnTo>
                    <a:pt x="897" y="9"/>
                  </a:lnTo>
                  <a:lnTo>
                    <a:pt x="734" y="35"/>
                  </a:lnTo>
                  <a:lnTo>
                    <a:pt x="593" y="76"/>
                  </a:lnTo>
                  <a:lnTo>
                    <a:pt x="471" y="131"/>
                  </a:lnTo>
                  <a:lnTo>
                    <a:pt x="366" y="200"/>
                  </a:lnTo>
                  <a:lnTo>
                    <a:pt x="277" y="279"/>
                  </a:lnTo>
                  <a:lnTo>
                    <a:pt x="204" y="369"/>
                  </a:lnTo>
                  <a:lnTo>
                    <a:pt x="144" y="469"/>
                  </a:lnTo>
                  <a:lnTo>
                    <a:pt x="97" y="576"/>
                  </a:lnTo>
                  <a:lnTo>
                    <a:pt x="61" y="690"/>
                  </a:lnTo>
                  <a:lnTo>
                    <a:pt x="35" y="808"/>
                  </a:lnTo>
                  <a:lnTo>
                    <a:pt x="17" y="931"/>
                  </a:lnTo>
                  <a:lnTo>
                    <a:pt x="6" y="1056"/>
                  </a:lnTo>
                  <a:lnTo>
                    <a:pt x="1" y="1183"/>
                  </a:lnTo>
                  <a:lnTo>
                    <a:pt x="0" y="1311"/>
                  </a:lnTo>
                  <a:lnTo>
                    <a:pt x="3" y="1436"/>
                  </a:lnTo>
                  <a:lnTo>
                    <a:pt x="3" y="1594"/>
                  </a:lnTo>
                  <a:lnTo>
                    <a:pt x="4" y="1865"/>
                  </a:lnTo>
                  <a:lnTo>
                    <a:pt x="6" y="2231"/>
                  </a:lnTo>
                  <a:lnTo>
                    <a:pt x="9" y="2678"/>
                  </a:lnTo>
                  <a:lnTo>
                    <a:pt x="12" y="3188"/>
                  </a:lnTo>
                  <a:lnTo>
                    <a:pt x="15" y="3745"/>
                  </a:lnTo>
                  <a:lnTo>
                    <a:pt x="18" y="4332"/>
                  </a:lnTo>
                  <a:lnTo>
                    <a:pt x="21" y="4933"/>
                  </a:lnTo>
                  <a:lnTo>
                    <a:pt x="25" y="5531"/>
                  </a:lnTo>
                  <a:lnTo>
                    <a:pt x="28" y="6108"/>
                  </a:lnTo>
                  <a:lnTo>
                    <a:pt x="31" y="6650"/>
                  </a:lnTo>
                  <a:lnTo>
                    <a:pt x="34" y="7138"/>
                  </a:lnTo>
                  <a:lnTo>
                    <a:pt x="36" y="7558"/>
                  </a:lnTo>
                  <a:lnTo>
                    <a:pt x="39" y="7891"/>
                  </a:lnTo>
                  <a:lnTo>
                    <a:pt x="40" y="8121"/>
                  </a:lnTo>
                  <a:lnTo>
                    <a:pt x="41" y="8232"/>
                  </a:lnTo>
                  <a:lnTo>
                    <a:pt x="41" y="8288"/>
                  </a:lnTo>
                  <a:lnTo>
                    <a:pt x="42" y="8361"/>
                  </a:lnTo>
                  <a:lnTo>
                    <a:pt x="46" y="8450"/>
                  </a:lnTo>
                  <a:lnTo>
                    <a:pt x="57" y="8550"/>
                  </a:lnTo>
                  <a:lnTo>
                    <a:pt x="73" y="8658"/>
                  </a:lnTo>
                  <a:lnTo>
                    <a:pt x="98" y="8773"/>
                  </a:lnTo>
                  <a:lnTo>
                    <a:pt x="135" y="8891"/>
                  </a:lnTo>
                  <a:lnTo>
                    <a:pt x="184" y="9008"/>
                  </a:lnTo>
                  <a:lnTo>
                    <a:pt x="247" y="9123"/>
                  </a:lnTo>
                  <a:lnTo>
                    <a:pt x="326" y="9232"/>
                  </a:lnTo>
                  <a:lnTo>
                    <a:pt x="424" y="9332"/>
                  </a:lnTo>
                  <a:lnTo>
                    <a:pt x="542" y="9420"/>
                  </a:lnTo>
                  <a:lnTo>
                    <a:pt x="681" y="9494"/>
                  </a:lnTo>
                  <a:lnTo>
                    <a:pt x="843" y="9551"/>
                  </a:lnTo>
                  <a:lnTo>
                    <a:pt x="1032" y="9587"/>
                  </a:lnTo>
                  <a:lnTo>
                    <a:pt x="1248" y="9599"/>
                  </a:lnTo>
                  <a:lnTo>
                    <a:pt x="1466" y="9586"/>
                  </a:lnTo>
                  <a:lnTo>
                    <a:pt x="1659" y="9555"/>
                  </a:lnTo>
                  <a:lnTo>
                    <a:pt x="1826" y="9507"/>
                  </a:lnTo>
                  <a:lnTo>
                    <a:pt x="1969" y="9446"/>
                  </a:lnTo>
                  <a:lnTo>
                    <a:pt x="2091" y="9371"/>
                  </a:lnTo>
                  <a:lnTo>
                    <a:pt x="2193" y="9285"/>
                  </a:lnTo>
                  <a:lnTo>
                    <a:pt x="2277" y="9191"/>
                  </a:lnTo>
                  <a:lnTo>
                    <a:pt x="2344" y="9090"/>
                  </a:lnTo>
                  <a:lnTo>
                    <a:pt x="2396" y="8986"/>
                  </a:lnTo>
                  <a:lnTo>
                    <a:pt x="2435" y="8877"/>
                  </a:lnTo>
                  <a:lnTo>
                    <a:pt x="2463" y="8767"/>
                  </a:lnTo>
                  <a:lnTo>
                    <a:pt x="2481" y="8658"/>
                  </a:lnTo>
                  <a:lnTo>
                    <a:pt x="2492" y="8552"/>
                  </a:lnTo>
                  <a:lnTo>
                    <a:pt x="2495" y="8450"/>
                  </a:lnTo>
                  <a:lnTo>
                    <a:pt x="2495" y="8355"/>
                  </a:lnTo>
                  <a:lnTo>
                    <a:pt x="2493" y="8267"/>
                  </a:lnTo>
                  <a:lnTo>
                    <a:pt x="2492" y="8120"/>
                  </a:lnTo>
                  <a:lnTo>
                    <a:pt x="2492" y="7889"/>
                  </a:lnTo>
                  <a:lnTo>
                    <a:pt x="2491" y="7587"/>
                  </a:lnTo>
                  <a:lnTo>
                    <a:pt x="2490" y="7229"/>
                  </a:lnTo>
                  <a:lnTo>
                    <a:pt x="2489" y="6824"/>
                  </a:lnTo>
                  <a:lnTo>
                    <a:pt x="2486" y="6389"/>
                  </a:lnTo>
                  <a:lnTo>
                    <a:pt x="2485" y="5934"/>
                  </a:lnTo>
                  <a:lnTo>
                    <a:pt x="2483" y="5471"/>
                  </a:lnTo>
                  <a:lnTo>
                    <a:pt x="2481" y="5016"/>
                  </a:lnTo>
                  <a:lnTo>
                    <a:pt x="2480" y="4581"/>
                  </a:lnTo>
                  <a:lnTo>
                    <a:pt x="2478" y="4176"/>
                  </a:lnTo>
                  <a:lnTo>
                    <a:pt x="2477" y="3817"/>
                  </a:lnTo>
                  <a:lnTo>
                    <a:pt x="2476" y="3515"/>
                  </a:lnTo>
                  <a:lnTo>
                    <a:pt x="2475" y="3283"/>
                  </a:lnTo>
                  <a:lnTo>
                    <a:pt x="2475" y="3082"/>
                  </a:lnTo>
                  <a:lnTo>
                    <a:pt x="2270" y="3082"/>
                  </a:lnTo>
                  <a:lnTo>
                    <a:pt x="2308" y="8232"/>
                  </a:lnTo>
                  <a:lnTo>
                    <a:pt x="2303" y="8380"/>
                  </a:lnTo>
                  <a:lnTo>
                    <a:pt x="2293" y="8517"/>
                  </a:lnTo>
                  <a:lnTo>
                    <a:pt x="2273" y="8642"/>
                  </a:lnTo>
                  <a:lnTo>
                    <a:pt x="2248" y="8755"/>
                  </a:lnTo>
                  <a:lnTo>
                    <a:pt x="2213" y="8857"/>
                  </a:lnTo>
                  <a:lnTo>
                    <a:pt x="2172" y="8949"/>
                  </a:lnTo>
                  <a:lnTo>
                    <a:pt x="2122" y="9031"/>
                  </a:lnTo>
                  <a:lnTo>
                    <a:pt x="2066" y="9102"/>
                  </a:lnTo>
                  <a:lnTo>
                    <a:pt x="2000" y="9164"/>
                  </a:lnTo>
                  <a:lnTo>
                    <a:pt x="1928" y="9217"/>
                  </a:lnTo>
                  <a:lnTo>
                    <a:pt x="1847" y="9260"/>
                  </a:lnTo>
                  <a:lnTo>
                    <a:pt x="1759" y="9294"/>
                  </a:lnTo>
                  <a:lnTo>
                    <a:pt x="1661" y="9322"/>
                  </a:lnTo>
                  <a:lnTo>
                    <a:pt x="1556" y="9340"/>
                  </a:lnTo>
                  <a:lnTo>
                    <a:pt x="1444" y="9351"/>
                  </a:lnTo>
                  <a:lnTo>
                    <a:pt x="1323" y="9354"/>
                  </a:lnTo>
                  <a:lnTo>
                    <a:pt x="1198" y="9351"/>
                  </a:lnTo>
                  <a:lnTo>
                    <a:pt x="1080" y="9339"/>
                  </a:lnTo>
                  <a:lnTo>
                    <a:pt x="971" y="9320"/>
                  </a:lnTo>
                  <a:lnTo>
                    <a:pt x="869" y="9292"/>
                  </a:lnTo>
                  <a:lnTo>
                    <a:pt x="776" y="9255"/>
                  </a:lnTo>
                  <a:lnTo>
                    <a:pt x="690" y="9211"/>
                  </a:lnTo>
                  <a:lnTo>
                    <a:pt x="613" y="9155"/>
                  </a:lnTo>
                  <a:lnTo>
                    <a:pt x="544" y="9091"/>
                  </a:lnTo>
                  <a:lnTo>
                    <a:pt x="483" y="9018"/>
                  </a:lnTo>
                  <a:lnTo>
                    <a:pt x="429" y="8933"/>
                  </a:lnTo>
                  <a:lnTo>
                    <a:pt x="384" y="8838"/>
                  </a:lnTo>
                  <a:lnTo>
                    <a:pt x="347" y="8733"/>
                  </a:lnTo>
                  <a:lnTo>
                    <a:pt x="318" y="8617"/>
                  </a:lnTo>
                  <a:lnTo>
                    <a:pt x="298" y="8489"/>
                  </a:lnTo>
                  <a:lnTo>
                    <a:pt x="285" y="8350"/>
                  </a:lnTo>
                  <a:lnTo>
                    <a:pt x="281" y="8198"/>
                  </a:lnTo>
                  <a:lnTo>
                    <a:pt x="280" y="7984"/>
                  </a:lnTo>
                  <a:lnTo>
                    <a:pt x="279" y="7666"/>
                  </a:lnTo>
                  <a:lnTo>
                    <a:pt x="277" y="7261"/>
                  </a:lnTo>
                  <a:lnTo>
                    <a:pt x="275" y="6786"/>
                  </a:lnTo>
                  <a:lnTo>
                    <a:pt x="273" y="6257"/>
                  </a:lnTo>
                  <a:lnTo>
                    <a:pt x="270" y="5688"/>
                  </a:lnTo>
                  <a:lnTo>
                    <a:pt x="267" y="5098"/>
                  </a:lnTo>
                  <a:lnTo>
                    <a:pt x="263" y="4502"/>
                  </a:lnTo>
                  <a:lnTo>
                    <a:pt x="259" y="3915"/>
                  </a:lnTo>
                  <a:lnTo>
                    <a:pt x="256" y="3354"/>
                  </a:lnTo>
                  <a:lnTo>
                    <a:pt x="253" y="2835"/>
                  </a:lnTo>
                  <a:lnTo>
                    <a:pt x="250" y="2374"/>
                  </a:lnTo>
                  <a:lnTo>
                    <a:pt x="248" y="1989"/>
                  </a:lnTo>
                  <a:lnTo>
                    <a:pt x="246" y="1692"/>
                  </a:lnTo>
                  <a:lnTo>
                    <a:pt x="245" y="1503"/>
                  </a:lnTo>
                  <a:lnTo>
                    <a:pt x="245" y="1436"/>
                  </a:lnTo>
                  <a:lnTo>
                    <a:pt x="249" y="1247"/>
                  </a:lnTo>
                  <a:lnTo>
                    <a:pt x="262" y="1081"/>
                  </a:lnTo>
                  <a:lnTo>
                    <a:pt x="284" y="934"/>
                  </a:lnTo>
                  <a:lnTo>
                    <a:pt x="311" y="807"/>
                  </a:lnTo>
                  <a:lnTo>
                    <a:pt x="348" y="698"/>
                  </a:lnTo>
                  <a:lnTo>
                    <a:pt x="390" y="605"/>
                  </a:lnTo>
                  <a:lnTo>
                    <a:pt x="438" y="528"/>
                  </a:lnTo>
                  <a:lnTo>
                    <a:pt x="490" y="464"/>
                  </a:lnTo>
                  <a:lnTo>
                    <a:pt x="548" y="413"/>
                  </a:lnTo>
                  <a:lnTo>
                    <a:pt x="611" y="372"/>
                  </a:lnTo>
                  <a:lnTo>
                    <a:pt x="676" y="341"/>
                  </a:lnTo>
                  <a:lnTo>
                    <a:pt x="746" y="318"/>
                  </a:lnTo>
                  <a:lnTo>
                    <a:pt x="818" y="302"/>
                  </a:lnTo>
                  <a:lnTo>
                    <a:pt x="892" y="291"/>
                  </a:lnTo>
                  <a:lnTo>
                    <a:pt x="967" y="285"/>
                  </a:lnTo>
                  <a:lnTo>
                    <a:pt x="1044" y="279"/>
                  </a:lnTo>
                  <a:lnTo>
                    <a:pt x="1142" y="283"/>
                  </a:lnTo>
                  <a:lnTo>
                    <a:pt x="1238" y="292"/>
                  </a:lnTo>
                  <a:lnTo>
                    <a:pt x="1329" y="307"/>
                  </a:lnTo>
                  <a:lnTo>
                    <a:pt x="1416" y="329"/>
                  </a:lnTo>
                  <a:lnTo>
                    <a:pt x="1497" y="357"/>
                  </a:lnTo>
                  <a:lnTo>
                    <a:pt x="1574" y="392"/>
                  </a:lnTo>
                  <a:lnTo>
                    <a:pt x="1645" y="435"/>
                  </a:lnTo>
                  <a:lnTo>
                    <a:pt x="1710" y="484"/>
                  </a:lnTo>
                  <a:lnTo>
                    <a:pt x="1768" y="542"/>
                  </a:lnTo>
                  <a:lnTo>
                    <a:pt x="1821" y="606"/>
                  </a:lnTo>
                  <a:lnTo>
                    <a:pt x="1866" y="680"/>
                  </a:lnTo>
                  <a:lnTo>
                    <a:pt x="1903" y="761"/>
                  </a:lnTo>
                  <a:lnTo>
                    <a:pt x="1933" y="851"/>
                  </a:lnTo>
                  <a:lnTo>
                    <a:pt x="1954" y="949"/>
                  </a:lnTo>
                  <a:lnTo>
                    <a:pt x="1967" y="1057"/>
                  </a:lnTo>
                  <a:lnTo>
                    <a:pt x="1973" y="117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6934320" y="2438280"/>
              <a:ext cx="6094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7620120" y="4648320"/>
              <a:ext cx="838080" cy="990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3" name=""/>
            <p:cNvGraphicFramePr/>
            <p:nvPr/>
          </p:nvGraphicFramePr>
          <p:xfrm>
            <a:off x="7238880" y="3352680"/>
            <a:ext cx="762120" cy="838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238880" y="3352680"/>
                      <a:ext cx="76212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890F-5AB4-411B-AB8D-7F9B91B747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ensing Thinking (ST)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arent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Feel responsible for keeping family focu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Feel they need to make the rules and routines for the family to follo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Have strong security needs for the fami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re family-oriented and expect others to uphold family tradi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ant others to view them as good par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how that they love their family by doing things for th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600200" y="228600"/>
            <a:ext cx="7010280" cy="1371600"/>
            <a:chOff x="1600200" y="228600"/>
            <a:chExt cx="7010280" cy="1371600"/>
          </a:xfrm>
        </p:grpSpPr>
        <p:sp>
          <p:nvSpPr>
            <p:cNvPr id="148" name=""/>
            <p:cNvSpPr/>
            <p:nvPr/>
          </p:nvSpPr>
          <p:spPr>
            <a:xfrm>
              <a:off x="1600200" y="228600"/>
              <a:ext cx="457200" cy="1295280"/>
            </a:xfrm>
            <a:custGeom>
              <a:avLst/>
              <a:gdLst/>
              <a:ahLst/>
              <a:rect l="l" t="t" r="r" b="b"/>
              <a:pathLst>
                <a:path w="2591" h="9791">
                  <a:moveTo>
                    <a:pt x="2048" y="1197"/>
                  </a:moveTo>
                  <a:lnTo>
                    <a:pt x="2048" y="1503"/>
                  </a:lnTo>
                  <a:lnTo>
                    <a:pt x="2050" y="1771"/>
                  </a:lnTo>
                  <a:lnTo>
                    <a:pt x="2051" y="2100"/>
                  </a:lnTo>
                  <a:lnTo>
                    <a:pt x="2053" y="2478"/>
                  </a:lnTo>
                  <a:lnTo>
                    <a:pt x="2054" y="2893"/>
                  </a:lnTo>
                  <a:lnTo>
                    <a:pt x="2056" y="3331"/>
                  </a:lnTo>
                  <a:lnTo>
                    <a:pt x="2058" y="3783"/>
                  </a:lnTo>
                  <a:lnTo>
                    <a:pt x="2060" y="4236"/>
                  </a:lnTo>
                  <a:lnTo>
                    <a:pt x="2062" y="4676"/>
                  </a:lnTo>
                  <a:lnTo>
                    <a:pt x="2063" y="5093"/>
                  </a:lnTo>
                  <a:lnTo>
                    <a:pt x="2065" y="5474"/>
                  </a:lnTo>
                  <a:lnTo>
                    <a:pt x="2066" y="5806"/>
                  </a:lnTo>
                  <a:lnTo>
                    <a:pt x="2067" y="6079"/>
                  </a:lnTo>
                  <a:lnTo>
                    <a:pt x="2067" y="6280"/>
                  </a:lnTo>
                  <a:lnTo>
                    <a:pt x="2068" y="6396"/>
                  </a:lnTo>
                  <a:lnTo>
                    <a:pt x="2065" y="6467"/>
                  </a:lnTo>
                  <a:lnTo>
                    <a:pt x="2058" y="6537"/>
                  </a:lnTo>
                  <a:lnTo>
                    <a:pt x="2046" y="6607"/>
                  </a:lnTo>
                  <a:lnTo>
                    <a:pt x="2030" y="6675"/>
                  </a:lnTo>
                  <a:lnTo>
                    <a:pt x="2006" y="6741"/>
                  </a:lnTo>
                  <a:lnTo>
                    <a:pt x="1978" y="6804"/>
                  </a:lnTo>
                  <a:lnTo>
                    <a:pt x="1944" y="6865"/>
                  </a:lnTo>
                  <a:lnTo>
                    <a:pt x="1904" y="6921"/>
                  </a:lnTo>
                  <a:lnTo>
                    <a:pt x="1857" y="6973"/>
                  </a:lnTo>
                  <a:lnTo>
                    <a:pt x="1804" y="7021"/>
                  </a:lnTo>
                  <a:lnTo>
                    <a:pt x="1744" y="7062"/>
                  </a:lnTo>
                  <a:lnTo>
                    <a:pt x="1677" y="7097"/>
                  </a:lnTo>
                  <a:lnTo>
                    <a:pt x="1603" y="7126"/>
                  </a:lnTo>
                  <a:lnTo>
                    <a:pt x="1521" y="7146"/>
                  </a:lnTo>
                  <a:lnTo>
                    <a:pt x="1432" y="7160"/>
                  </a:lnTo>
                  <a:lnTo>
                    <a:pt x="1335" y="7164"/>
                  </a:lnTo>
                  <a:lnTo>
                    <a:pt x="1214" y="7157"/>
                  </a:lnTo>
                  <a:lnTo>
                    <a:pt x="1107" y="7138"/>
                  </a:lnTo>
                  <a:lnTo>
                    <a:pt x="1013" y="7107"/>
                  </a:lnTo>
                  <a:lnTo>
                    <a:pt x="928" y="7067"/>
                  </a:lnTo>
                  <a:lnTo>
                    <a:pt x="856" y="7018"/>
                  </a:lnTo>
                  <a:lnTo>
                    <a:pt x="792" y="6963"/>
                  </a:lnTo>
                  <a:lnTo>
                    <a:pt x="739" y="6902"/>
                  </a:lnTo>
                  <a:lnTo>
                    <a:pt x="695" y="6838"/>
                  </a:lnTo>
                  <a:lnTo>
                    <a:pt x="658" y="6773"/>
                  </a:lnTo>
                  <a:lnTo>
                    <a:pt x="628" y="6706"/>
                  </a:lnTo>
                  <a:lnTo>
                    <a:pt x="605" y="6640"/>
                  </a:lnTo>
                  <a:lnTo>
                    <a:pt x="588" y="6577"/>
                  </a:lnTo>
                  <a:lnTo>
                    <a:pt x="576" y="6517"/>
                  </a:lnTo>
                  <a:lnTo>
                    <a:pt x="567" y="6464"/>
                  </a:lnTo>
                  <a:lnTo>
                    <a:pt x="564" y="6418"/>
                  </a:lnTo>
                  <a:lnTo>
                    <a:pt x="562" y="6378"/>
                  </a:lnTo>
                  <a:lnTo>
                    <a:pt x="561" y="6314"/>
                  </a:lnTo>
                  <a:lnTo>
                    <a:pt x="561" y="6190"/>
                  </a:lnTo>
                  <a:lnTo>
                    <a:pt x="560" y="6017"/>
                  </a:lnTo>
                  <a:lnTo>
                    <a:pt x="559" y="5803"/>
                  </a:lnTo>
                  <a:lnTo>
                    <a:pt x="558" y="5558"/>
                  </a:lnTo>
                  <a:lnTo>
                    <a:pt x="556" y="5289"/>
                  </a:lnTo>
                  <a:lnTo>
                    <a:pt x="555" y="5004"/>
                  </a:lnTo>
                  <a:lnTo>
                    <a:pt x="552" y="4712"/>
                  </a:lnTo>
                  <a:lnTo>
                    <a:pt x="550" y="4423"/>
                  </a:lnTo>
                  <a:lnTo>
                    <a:pt x="549" y="4145"/>
                  </a:lnTo>
                  <a:lnTo>
                    <a:pt x="547" y="3886"/>
                  </a:lnTo>
                  <a:lnTo>
                    <a:pt x="546" y="3655"/>
                  </a:lnTo>
                  <a:lnTo>
                    <a:pt x="545" y="3460"/>
                  </a:lnTo>
                  <a:lnTo>
                    <a:pt x="544" y="3311"/>
                  </a:lnTo>
                  <a:lnTo>
                    <a:pt x="544" y="3180"/>
                  </a:lnTo>
                  <a:lnTo>
                    <a:pt x="350" y="3180"/>
                  </a:lnTo>
                  <a:lnTo>
                    <a:pt x="350" y="3286"/>
                  </a:lnTo>
                  <a:lnTo>
                    <a:pt x="351" y="3408"/>
                  </a:lnTo>
                  <a:lnTo>
                    <a:pt x="352" y="3570"/>
                  </a:lnTo>
                  <a:lnTo>
                    <a:pt x="355" y="3764"/>
                  </a:lnTo>
                  <a:lnTo>
                    <a:pt x="356" y="3986"/>
                  </a:lnTo>
                  <a:lnTo>
                    <a:pt x="358" y="4229"/>
                  </a:lnTo>
                  <a:lnTo>
                    <a:pt x="360" y="4487"/>
                  </a:lnTo>
                  <a:lnTo>
                    <a:pt x="361" y="4754"/>
                  </a:lnTo>
                  <a:lnTo>
                    <a:pt x="363" y="5026"/>
                  </a:lnTo>
                  <a:lnTo>
                    <a:pt x="365" y="5295"/>
                  </a:lnTo>
                  <a:lnTo>
                    <a:pt x="367" y="5555"/>
                  </a:lnTo>
                  <a:lnTo>
                    <a:pt x="368" y="5801"/>
                  </a:lnTo>
                  <a:lnTo>
                    <a:pt x="369" y="6028"/>
                  </a:lnTo>
                  <a:lnTo>
                    <a:pt x="369" y="6228"/>
                  </a:lnTo>
                  <a:lnTo>
                    <a:pt x="370" y="6396"/>
                  </a:lnTo>
                  <a:lnTo>
                    <a:pt x="379" y="6540"/>
                  </a:lnTo>
                  <a:lnTo>
                    <a:pt x="398" y="6670"/>
                  </a:lnTo>
                  <a:lnTo>
                    <a:pt x="428" y="6787"/>
                  </a:lnTo>
                  <a:lnTo>
                    <a:pt x="467" y="6892"/>
                  </a:lnTo>
                  <a:lnTo>
                    <a:pt x="514" y="6985"/>
                  </a:lnTo>
                  <a:lnTo>
                    <a:pt x="568" y="7066"/>
                  </a:lnTo>
                  <a:lnTo>
                    <a:pt x="630" y="7137"/>
                  </a:lnTo>
                  <a:lnTo>
                    <a:pt x="698" y="7198"/>
                  </a:lnTo>
                  <a:lnTo>
                    <a:pt x="770" y="7249"/>
                  </a:lnTo>
                  <a:lnTo>
                    <a:pt x="849" y="7292"/>
                  </a:lnTo>
                  <a:lnTo>
                    <a:pt x="930" y="7326"/>
                  </a:lnTo>
                  <a:lnTo>
                    <a:pt x="1016" y="7353"/>
                  </a:lnTo>
                  <a:lnTo>
                    <a:pt x="1103" y="7374"/>
                  </a:lnTo>
                  <a:lnTo>
                    <a:pt x="1193" y="7387"/>
                  </a:lnTo>
                  <a:lnTo>
                    <a:pt x="1283" y="7394"/>
                  </a:lnTo>
                  <a:lnTo>
                    <a:pt x="1374" y="7396"/>
                  </a:lnTo>
                  <a:lnTo>
                    <a:pt x="1406" y="7396"/>
                  </a:lnTo>
                  <a:lnTo>
                    <a:pt x="1450" y="7392"/>
                  </a:lnTo>
                  <a:lnTo>
                    <a:pt x="1507" y="7386"/>
                  </a:lnTo>
                  <a:lnTo>
                    <a:pt x="1572" y="7374"/>
                  </a:lnTo>
                  <a:lnTo>
                    <a:pt x="1643" y="7355"/>
                  </a:lnTo>
                  <a:lnTo>
                    <a:pt x="1719" y="7330"/>
                  </a:lnTo>
                  <a:lnTo>
                    <a:pt x="1798" y="7295"/>
                  </a:lnTo>
                  <a:lnTo>
                    <a:pt x="1877" y="7251"/>
                  </a:lnTo>
                  <a:lnTo>
                    <a:pt x="1955" y="7197"/>
                  </a:lnTo>
                  <a:lnTo>
                    <a:pt x="2028" y="7129"/>
                  </a:lnTo>
                  <a:lnTo>
                    <a:pt x="2097" y="7048"/>
                  </a:lnTo>
                  <a:lnTo>
                    <a:pt x="2157" y="6952"/>
                  </a:lnTo>
                  <a:lnTo>
                    <a:pt x="2209" y="6841"/>
                  </a:lnTo>
                  <a:lnTo>
                    <a:pt x="2246" y="6711"/>
                  </a:lnTo>
                  <a:lnTo>
                    <a:pt x="2272" y="6564"/>
                  </a:lnTo>
                  <a:lnTo>
                    <a:pt x="2281" y="6396"/>
                  </a:lnTo>
                  <a:lnTo>
                    <a:pt x="2276" y="6245"/>
                  </a:lnTo>
                  <a:lnTo>
                    <a:pt x="2273" y="6019"/>
                  </a:lnTo>
                  <a:lnTo>
                    <a:pt x="2270" y="5730"/>
                  </a:lnTo>
                  <a:lnTo>
                    <a:pt x="2265" y="5388"/>
                  </a:lnTo>
                  <a:lnTo>
                    <a:pt x="2262" y="5006"/>
                  </a:lnTo>
                  <a:lnTo>
                    <a:pt x="2260" y="4592"/>
                  </a:lnTo>
                  <a:lnTo>
                    <a:pt x="2256" y="4160"/>
                  </a:lnTo>
                  <a:lnTo>
                    <a:pt x="2253" y="3718"/>
                  </a:lnTo>
                  <a:lnTo>
                    <a:pt x="2251" y="3280"/>
                  </a:lnTo>
                  <a:lnTo>
                    <a:pt x="2249" y="2856"/>
                  </a:lnTo>
                  <a:lnTo>
                    <a:pt x="2246" y="2456"/>
                  </a:lnTo>
                  <a:lnTo>
                    <a:pt x="2244" y="2092"/>
                  </a:lnTo>
                  <a:lnTo>
                    <a:pt x="2243" y="1775"/>
                  </a:lnTo>
                  <a:lnTo>
                    <a:pt x="2242" y="1516"/>
                  </a:lnTo>
                  <a:lnTo>
                    <a:pt x="2242" y="1214"/>
                  </a:lnTo>
                  <a:lnTo>
                    <a:pt x="2233" y="1033"/>
                  </a:lnTo>
                  <a:lnTo>
                    <a:pt x="2210" y="871"/>
                  </a:lnTo>
                  <a:lnTo>
                    <a:pt x="2173" y="724"/>
                  </a:lnTo>
                  <a:lnTo>
                    <a:pt x="2123" y="596"/>
                  </a:lnTo>
                  <a:lnTo>
                    <a:pt x="2063" y="483"/>
                  </a:lnTo>
                  <a:lnTo>
                    <a:pt x="1994" y="384"/>
                  </a:lnTo>
                  <a:lnTo>
                    <a:pt x="1916" y="298"/>
                  </a:lnTo>
                  <a:lnTo>
                    <a:pt x="1834" y="226"/>
                  </a:lnTo>
                  <a:lnTo>
                    <a:pt x="1745" y="166"/>
                  </a:lnTo>
                  <a:lnTo>
                    <a:pt x="1654" y="116"/>
                  </a:lnTo>
                  <a:lnTo>
                    <a:pt x="1561" y="77"/>
                  </a:lnTo>
                  <a:lnTo>
                    <a:pt x="1467" y="47"/>
                  </a:lnTo>
                  <a:lnTo>
                    <a:pt x="1376" y="26"/>
                  </a:lnTo>
                  <a:lnTo>
                    <a:pt x="1286" y="11"/>
                  </a:lnTo>
                  <a:lnTo>
                    <a:pt x="1202" y="3"/>
                  </a:lnTo>
                  <a:lnTo>
                    <a:pt x="1123" y="0"/>
                  </a:lnTo>
                  <a:lnTo>
                    <a:pt x="931" y="9"/>
                  </a:lnTo>
                  <a:lnTo>
                    <a:pt x="762" y="36"/>
                  </a:lnTo>
                  <a:lnTo>
                    <a:pt x="616" y="77"/>
                  </a:lnTo>
                  <a:lnTo>
                    <a:pt x="489" y="134"/>
                  </a:lnTo>
                  <a:lnTo>
                    <a:pt x="380" y="204"/>
                  </a:lnTo>
                  <a:lnTo>
                    <a:pt x="288" y="285"/>
                  </a:lnTo>
                  <a:lnTo>
                    <a:pt x="212" y="377"/>
                  </a:lnTo>
                  <a:lnTo>
                    <a:pt x="150" y="479"/>
                  </a:lnTo>
                  <a:lnTo>
                    <a:pt x="101" y="588"/>
                  </a:lnTo>
                  <a:lnTo>
                    <a:pt x="63" y="704"/>
                  </a:lnTo>
                  <a:lnTo>
                    <a:pt x="37" y="824"/>
                  </a:lnTo>
                  <a:lnTo>
                    <a:pt x="18" y="950"/>
                  </a:lnTo>
                  <a:lnTo>
                    <a:pt x="7" y="1077"/>
                  </a:lnTo>
                  <a:lnTo>
                    <a:pt x="1" y="1207"/>
                  </a:lnTo>
                  <a:lnTo>
                    <a:pt x="0" y="1337"/>
                  </a:lnTo>
                  <a:lnTo>
                    <a:pt x="3" y="1464"/>
                  </a:lnTo>
                  <a:lnTo>
                    <a:pt x="3" y="1626"/>
                  </a:lnTo>
                  <a:lnTo>
                    <a:pt x="4" y="1902"/>
                  </a:lnTo>
                  <a:lnTo>
                    <a:pt x="7" y="2275"/>
                  </a:lnTo>
                  <a:lnTo>
                    <a:pt x="9" y="2731"/>
                  </a:lnTo>
                  <a:lnTo>
                    <a:pt x="12" y="3252"/>
                  </a:lnTo>
                  <a:lnTo>
                    <a:pt x="16" y="3820"/>
                  </a:lnTo>
                  <a:lnTo>
                    <a:pt x="19" y="4419"/>
                  </a:lnTo>
                  <a:lnTo>
                    <a:pt x="22" y="5031"/>
                  </a:lnTo>
                  <a:lnTo>
                    <a:pt x="26" y="5642"/>
                  </a:lnTo>
                  <a:lnTo>
                    <a:pt x="29" y="6230"/>
                  </a:lnTo>
                  <a:lnTo>
                    <a:pt x="32" y="6783"/>
                  </a:lnTo>
                  <a:lnTo>
                    <a:pt x="36" y="7281"/>
                  </a:lnTo>
                  <a:lnTo>
                    <a:pt x="38" y="7709"/>
                  </a:lnTo>
                  <a:lnTo>
                    <a:pt x="40" y="8049"/>
                  </a:lnTo>
                  <a:lnTo>
                    <a:pt x="41" y="8283"/>
                  </a:lnTo>
                  <a:lnTo>
                    <a:pt x="42" y="8397"/>
                  </a:lnTo>
                  <a:lnTo>
                    <a:pt x="42" y="8454"/>
                  </a:lnTo>
                  <a:lnTo>
                    <a:pt x="43" y="8528"/>
                  </a:lnTo>
                  <a:lnTo>
                    <a:pt x="48" y="8619"/>
                  </a:lnTo>
                  <a:lnTo>
                    <a:pt x="59" y="8721"/>
                  </a:lnTo>
                  <a:lnTo>
                    <a:pt x="76" y="8831"/>
                  </a:lnTo>
                  <a:lnTo>
                    <a:pt x="102" y="8948"/>
                  </a:lnTo>
                  <a:lnTo>
                    <a:pt x="140" y="9069"/>
                  </a:lnTo>
                  <a:lnTo>
                    <a:pt x="191" y="9188"/>
                  </a:lnTo>
                  <a:lnTo>
                    <a:pt x="257" y="9305"/>
                  </a:lnTo>
                  <a:lnTo>
                    <a:pt x="339" y="9416"/>
                  </a:lnTo>
                  <a:lnTo>
                    <a:pt x="440" y="9518"/>
                  </a:lnTo>
                  <a:lnTo>
                    <a:pt x="562" y="9609"/>
                  </a:lnTo>
                  <a:lnTo>
                    <a:pt x="707" y="9684"/>
                  </a:lnTo>
                  <a:lnTo>
                    <a:pt x="876" y="9742"/>
                  </a:lnTo>
                  <a:lnTo>
                    <a:pt x="1071" y="9779"/>
                  </a:lnTo>
                  <a:lnTo>
                    <a:pt x="1296" y="9791"/>
                  </a:lnTo>
                  <a:lnTo>
                    <a:pt x="1523" y="9778"/>
                  </a:lnTo>
                  <a:lnTo>
                    <a:pt x="1723" y="9746"/>
                  </a:lnTo>
                  <a:lnTo>
                    <a:pt x="1896" y="9697"/>
                  </a:lnTo>
                  <a:lnTo>
                    <a:pt x="2045" y="9635"/>
                  </a:lnTo>
                  <a:lnTo>
                    <a:pt x="2172" y="9558"/>
                  </a:lnTo>
                  <a:lnTo>
                    <a:pt x="2277" y="9471"/>
                  </a:lnTo>
                  <a:lnTo>
                    <a:pt x="2364" y="9375"/>
                  </a:lnTo>
                  <a:lnTo>
                    <a:pt x="2434" y="9272"/>
                  </a:lnTo>
                  <a:lnTo>
                    <a:pt x="2489" y="9165"/>
                  </a:lnTo>
                  <a:lnTo>
                    <a:pt x="2529" y="9054"/>
                  </a:lnTo>
                  <a:lnTo>
                    <a:pt x="2558" y="8942"/>
                  </a:lnTo>
                  <a:lnTo>
                    <a:pt x="2576" y="8831"/>
                  </a:lnTo>
                  <a:lnTo>
                    <a:pt x="2588" y="8723"/>
                  </a:lnTo>
                  <a:lnTo>
                    <a:pt x="2591" y="8619"/>
                  </a:lnTo>
                  <a:lnTo>
                    <a:pt x="2591" y="8522"/>
                  </a:lnTo>
                  <a:lnTo>
                    <a:pt x="2589" y="8433"/>
                  </a:lnTo>
                  <a:lnTo>
                    <a:pt x="2588" y="8282"/>
                  </a:lnTo>
                  <a:lnTo>
                    <a:pt x="2588" y="8047"/>
                  </a:lnTo>
                  <a:lnTo>
                    <a:pt x="2586" y="7739"/>
                  </a:lnTo>
                  <a:lnTo>
                    <a:pt x="2585" y="7374"/>
                  </a:lnTo>
                  <a:lnTo>
                    <a:pt x="2584" y="6961"/>
                  </a:lnTo>
                  <a:lnTo>
                    <a:pt x="2582" y="6516"/>
                  </a:lnTo>
                  <a:lnTo>
                    <a:pt x="2581" y="6052"/>
                  </a:lnTo>
                  <a:lnTo>
                    <a:pt x="2579" y="5581"/>
                  </a:lnTo>
                  <a:lnTo>
                    <a:pt x="2576" y="5117"/>
                  </a:lnTo>
                  <a:lnTo>
                    <a:pt x="2575" y="4672"/>
                  </a:lnTo>
                  <a:lnTo>
                    <a:pt x="2573" y="4259"/>
                  </a:lnTo>
                  <a:lnTo>
                    <a:pt x="2572" y="3893"/>
                  </a:lnTo>
                  <a:lnTo>
                    <a:pt x="2571" y="3585"/>
                  </a:lnTo>
                  <a:lnTo>
                    <a:pt x="2570" y="3349"/>
                  </a:lnTo>
                  <a:lnTo>
                    <a:pt x="2570" y="3144"/>
                  </a:lnTo>
                  <a:lnTo>
                    <a:pt x="2357" y="3144"/>
                  </a:lnTo>
                  <a:lnTo>
                    <a:pt x="2396" y="8397"/>
                  </a:lnTo>
                  <a:lnTo>
                    <a:pt x="2392" y="8548"/>
                  </a:lnTo>
                  <a:lnTo>
                    <a:pt x="2381" y="8688"/>
                  </a:lnTo>
                  <a:lnTo>
                    <a:pt x="2361" y="8814"/>
                  </a:lnTo>
                  <a:lnTo>
                    <a:pt x="2334" y="8930"/>
                  </a:lnTo>
                  <a:lnTo>
                    <a:pt x="2299" y="9035"/>
                  </a:lnTo>
                  <a:lnTo>
                    <a:pt x="2255" y="9128"/>
                  </a:lnTo>
                  <a:lnTo>
                    <a:pt x="2204" y="9212"/>
                  </a:lnTo>
                  <a:lnTo>
                    <a:pt x="2145" y="9284"/>
                  </a:lnTo>
                  <a:lnTo>
                    <a:pt x="2077" y="9347"/>
                  </a:lnTo>
                  <a:lnTo>
                    <a:pt x="2002" y="9401"/>
                  </a:lnTo>
                  <a:lnTo>
                    <a:pt x="1918" y="9445"/>
                  </a:lnTo>
                  <a:lnTo>
                    <a:pt x="1826" y="9480"/>
                  </a:lnTo>
                  <a:lnTo>
                    <a:pt x="1725" y="9508"/>
                  </a:lnTo>
                  <a:lnTo>
                    <a:pt x="1616" y="9526"/>
                  </a:lnTo>
                  <a:lnTo>
                    <a:pt x="1499" y="9538"/>
                  </a:lnTo>
                  <a:lnTo>
                    <a:pt x="1374" y="9541"/>
                  </a:lnTo>
                  <a:lnTo>
                    <a:pt x="1244" y="9538"/>
                  </a:lnTo>
                  <a:lnTo>
                    <a:pt x="1121" y="9525"/>
                  </a:lnTo>
                  <a:lnTo>
                    <a:pt x="1008" y="9506"/>
                  </a:lnTo>
                  <a:lnTo>
                    <a:pt x="903" y="9478"/>
                  </a:lnTo>
                  <a:lnTo>
                    <a:pt x="806" y="9440"/>
                  </a:lnTo>
                  <a:lnTo>
                    <a:pt x="717" y="9395"/>
                  </a:lnTo>
                  <a:lnTo>
                    <a:pt x="637" y="9338"/>
                  </a:lnTo>
                  <a:lnTo>
                    <a:pt x="565" y="9273"/>
                  </a:lnTo>
                  <a:lnTo>
                    <a:pt x="501" y="9198"/>
                  </a:lnTo>
                  <a:lnTo>
                    <a:pt x="446" y="9112"/>
                  </a:lnTo>
                  <a:lnTo>
                    <a:pt x="399" y="9015"/>
                  </a:lnTo>
                  <a:lnTo>
                    <a:pt x="360" y="8908"/>
                  </a:lnTo>
                  <a:lnTo>
                    <a:pt x="330" y="8790"/>
                  </a:lnTo>
                  <a:lnTo>
                    <a:pt x="309" y="8659"/>
                  </a:lnTo>
                  <a:lnTo>
                    <a:pt x="296" y="8517"/>
                  </a:lnTo>
                  <a:lnTo>
                    <a:pt x="292" y="8362"/>
                  </a:lnTo>
                  <a:lnTo>
                    <a:pt x="291" y="8143"/>
                  </a:lnTo>
                  <a:lnTo>
                    <a:pt x="290" y="7819"/>
                  </a:lnTo>
                  <a:lnTo>
                    <a:pt x="288" y="7407"/>
                  </a:lnTo>
                  <a:lnTo>
                    <a:pt x="286" y="6922"/>
                  </a:lnTo>
                  <a:lnTo>
                    <a:pt x="283" y="6383"/>
                  </a:lnTo>
                  <a:lnTo>
                    <a:pt x="280" y="5802"/>
                  </a:lnTo>
                  <a:lnTo>
                    <a:pt x="277" y="5200"/>
                  </a:lnTo>
                  <a:lnTo>
                    <a:pt x="273" y="4592"/>
                  </a:lnTo>
                  <a:lnTo>
                    <a:pt x="269" y="3993"/>
                  </a:lnTo>
                  <a:lnTo>
                    <a:pt x="266" y="3421"/>
                  </a:lnTo>
                  <a:lnTo>
                    <a:pt x="262" y="2892"/>
                  </a:lnTo>
                  <a:lnTo>
                    <a:pt x="260" y="2422"/>
                  </a:lnTo>
                  <a:lnTo>
                    <a:pt x="258" y="2028"/>
                  </a:lnTo>
                  <a:lnTo>
                    <a:pt x="256" y="1726"/>
                  </a:lnTo>
                  <a:lnTo>
                    <a:pt x="255" y="1533"/>
                  </a:lnTo>
                  <a:lnTo>
                    <a:pt x="255" y="1464"/>
                  </a:lnTo>
                  <a:lnTo>
                    <a:pt x="259" y="1272"/>
                  </a:lnTo>
                  <a:lnTo>
                    <a:pt x="272" y="1102"/>
                  </a:lnTo>
                  <a:lnTo>
                    <a:pt x="295" y="953"/>
                  </a:lnTo>
                  <a:lnTo>
                    <a:pt x="323" y="823"/>
                  </a:lnTo>
                  <a:lnTo>
                    <a:pt x="361" y="712"/>
                  </a:lnTo>
                  <a:lnTo>
                    <a:pt x="405" y="617"/>
                  </a:lnTo>
                  <a:lnTo>
                    <a:pt x="455" y="538"/>
                  </a:lnTo>
                  <a:lnTo>
                    <a:pt x="509" y="473"/>
                  </a:lnTo>
                  <a:lnTo>
                    <a:pt x="569" y="421"/>
                  </a:lnTo>
                  <a:lnTo>
                    <a:pt x="635" y="380"/>
                  </a:lnTo>
                  <a:lnTo>
                    <a:pt x="702" y="348"/>
                  </a:lnTo>
                  <a:lnTo>
                    <a:pt x="775" y="324"/>
                  </a:lnTo>
                  <a:lnTo>
                    <a:pt x="849" y="308"/>
                  </a:lnTo>
                  <a:lnTo>
                    <a:pt x="926" y="296"/>
                  </a:lnTo>
                  <a:lnTo>
                    <a:pt x="1004" y="290"/>
                  </a:lnTo>
                  <a:lnTo>
                    <a:pt x="1084" y="285"/>
                  </a:lnTo>
                  <a:lnTo>
                    <a:pt x="1186" y="288"/>
                  </a:lnTo>
                  <a:lnTo>
                    <a:pt x="1286" y="297"/>
                  </a:lnTo>
                  <a:lnTo>
                    <a:pt x="1380" y="313"/>
                  </a:lnTo>
                  <a:lnTo>
                    <a:pt x="1471" y="335"/>
                  </a:lnTo>
                  <a:lnTo>
                    <a:pt x="1555" y="364"/>
                  </a:lnTo>
                  <a:lnTo>
                    <a:pt x="1635" y="400"/>
                  </a:lnTo>
                  <a:lnTo>
                    <a:pt x="1708" y="444"/>
                  </a:lnTo>
                  <a:lnTo>
                    <a:pt x="1776" y="494"/>
                  </a:lnTo>
                  <a:lnTo>
                    <a:pt x="1836" y="553"/>
                  </a:lnTo>
                  <a:lnTo>
                    <a:pt x="1891" y="618"/>
                  </a:lnTo>
                  <a:lnTo>
                    <a:pt x="1937" y="694"/>
                  </a:lnTo>
                  <a:lnTo>
                    <a:pt x="1976" y="776"/>
                  </a:lnTo>
                  <a:lnTo>
                    <a:pt x="2007" y="868"/>
                  </a:lnTo>
                  <a:lnTo>
                    <a:pt x="2030" y="968"/>
                  </a:lnTo>
                  <a:lnTo>
                    <a:pt x="2043" y="1079"/>
                  </a:lnTo>
                  <a:lnTo>
                    <a:pt x="2048" y="119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304920"/>
              <a:ext cx="457200" cy="1295280"/>
            </a:xfrm>
            <a:custGeom>
              <a:avLst/>
              <a:gdLst/>
              <a:ahLst/>
              <a:rect l="l" t="t" r="r" b="b"/>
              <a:pathLst>
                <a:path w="2591" h="9791">
                  <a:moveTo>
                    <a:pt x="2048" y="1197"/>
                  </a:moveTo>
                  <a:lnTo>
                    <a:pt x="2048" y="1503"/>
                  </a:lnTo>
                  <a:lnTo>
                    <a:pt x="2050" y="1771"/>
                  </a:lnTo>
                  <a:lnTo>
                    <a:pt x="2051" y="2100"/>
                  </a:lnTo>
                  <a:lnTo>
                    <a:pt x="2053" y="2478"/>
                  </a:lnTo>
                  <a:lnTo>
                    <a:pt x="2054" y="2893"/>
                  </a:lnTo>
                  <a:lnTo>
                    <a:pt x="2056" y="3331"/>
                  </a:lnTo>
                  <a:lnTo>
                    <a:pt x="2058" y="3783"/>
                  </a:lnTo>
                  <a:lnTo>
                    <a:pt x="2060" y="4236"/>
                  </a:lnTo>
                  <a:lnTo>
                    <a:pt x="2062" y="4676"/>
                  </a:lnTo>
                  <a:lnTo>
                    <a:pt x="2063" y="5093"/>
                  </a:lnTo>
                  <a:lnTo>
                    <a:pt x="2065" y="5474"/>
                  </a:lnTo>
                  <a:lnTo>
                    <a:pt x="2066" y="5806"/>
                  </a:lnTo>
                  <a:lnTo>
                    <a:pt x="2067" y="6079"/>
                  </a:lnTo>
                  <a:lnTo>
                    <a:pt x="2067" y="6280"/>
                  </a:lnTo>
                  <a:lnTo>
                    <a:pt x="2068" y="6396"/>
                  </a:lnTo>
                  <a:lnTo>
                    <a:pt x="2065" y="6467"/>
                  </a:lnTo>
                  <a:lnTo>
                    <a:pt x="2058" y="6537"/>
                  </a:lnTo>
                  <a:lnTo>
                    <a:pt x="2046" y="6607"/>
                  </a:lnTo>
                  <a:lnTo>
                    <a:pt x="2030" y="6675"/>
                  </a:lnTo>
                  <a:lnTo>
                    <a:pt x="2006" y="6741"/>
                  </a:lnTo>
                  <a:lnTo>
                    <a:pt x="1978" y="6804"/>
                  </a:lnTo>
                  <a:lnTo>
                    <a:pt x="1944" y="6865"/>
                  </a:lnTo>
                  <a:lnTo>
                    <a:pt x="1904" y="6921"/>
                  </a:lnTo>
                  <a:lnTo>
                    <a:pt x="1857" y="6973"/>
                  </a:lnTo>
                  <a:lnTo>
                    <a:pt x="1804" y="7021"/>
                  </a:lnTo>
                  <a:lnTo>
                    <a:pt x="1744" y="7062"/>
                  </a:lnTo>
                  <a:lnTo>
                    <a:pt x="1677" y="7097"/>
                  </a:lnTo>
                  <a:lnTo>
                    <a:pt x="1603" y="7126"/>
                  </a:lnTo>
                  <a:lnTo>
                    <a:pt x="1521" y="7146"/>
                  </a:lnTo>
                  <a:lnTo>
                    <a:pt x="1432" y="7160"/>
                  </a:lnTo>
                  <a:lnTo>
                    <a:pt x="1335" y="7164"/>
                  </a:lnTo>
                  <a:lnTo>
                    <a:pt x="1214" y="7157"/>
                  </a:lnTo>
                  <a:lnTo>
                    <a:pt x="1107" y="7138"/>
                  </a:lnTo>
                  <a:lnTo>
                    <a:pt x="1013" y="7107"/>
                  </a:lnTo>
                  <a:lnTo>
                    <a:pt x="928" y="7067"/>
                  </a:lnTo>
                  <a:lnTo>
                    <a:pt x="856" y="7018"/>
                  </a:lnTo>
                  <a:lnTo>
                    <a:pt x="792" y="6963"/>
                  </a:lnTo>
                  <a:lnTo>
                    <a:pt x="739" y="6902"/>
                  </a:lnTo>
                  <a:lnTo>
                    <a:pt x="695" y="6838"/>
                  </a:lnTo>
                  <a:lnTo>
                    <a:pt x="658" y="6773"/>
                  </a:lnTo>
                  <a:lnTo>
                    <a:pt x="628" y="6706"/>
                  </a:lnTo>
                  <a:lnTo>
                    <a:pt x="605" y="6640"/>
                  </a:lnTo>
                  <a:lnTo>
                    <a:pt x="588" y="6577"/>
                  </a:lnTo>
                  <a:lnTo>
                    <a:pt x="576" y="6517"/>
                  </a:lnTo>
                  <a:lnTo>
                    <a:pt x="567" y="6464"/>
                  </a:lnTo>
                  <a:lnTo>
                    <a:pt x="564" y="6418"/>
                  </a:lnTo>
                  <a:lnTo>
                    <a:pt x="562" y="6378"/>
                  </a:lnTo>
                  <a:lnTo>
                    <a:pt x="561" y="6314"/>
                  </a:lnTo>
                  <a:lnTo>
                    <a:pt x="561" y="6190"/>
                  </a:lnTo>
                  <a:lnTo>
                    <a:pt x="560" y="6017"/>
                  </a:lnTo>
                  <a:lnTo>
                    <a:pt x="559" y="5803"/>
                  </a:lnTo>
                  <a:lnTo>
                    <a:pt x="558" y="5558"/>
                  </a:lnTo>
                  <a:lnTo>
                    <a:pt x="556" y="5289"/>
                  </a:lnTo>
                  <a:lnTo>
                    <a:pt x="555" y="5004"/>
                  </a:lnTo>
                  <a:lnTo>
                    <a:pt x="552" y="4712"/>
                  </a:lnTo>
                  <a:lnTo>
                    <a:pt x="550" y="4423"/>
                  </a:lnTo>
                  <a:lnTo>
                    <a:pt x="549" y="4145"/>
                  </a:lnTo>
                  <a:lnTo>
                    <a:pt x="547" y="3886"/>
                  </a:lnTo>
                  <a:lnTo>
                    <a:pt x="546" y="3655"/>
                  </a:lnTo>
                  <a:lnTo>
                    <a:pt x="545" y="3460"/>
                  </a:lnTo>
                  <a:lnTo>
                    <a:pt x="544" y="3311"/>
                  </a:lnTo>
                  <a:lnTo>
                    <a:pt x="544" y="3180"/>
                  </a:lnTo>
                  <a:lnTo>
                    <a:pt x="350" y="3180"/>
                  </a:lnTo>
                  <a:lnTo>
                    <a:pt x="350" y="3286"/>
                  </a:lnTo>
                  <a:lnTo>
                    <a:pt x="351" y="3408"/>
                  </a:lnTo>
                  <a:lnTo>
                    <a:pt x="352" y="3570"/>
                  </a:lnTo>
                  <a:lnTo>
                    <a:pt x="355" y="3764"/>
                  </a:lnTo>
                  <a:lnTo>
                    <a:pt x="356" y="3986"/>
                  </a:lnTo>
                  <a:lnTo>
                    <a:pt x="358" y="4229"/>
                  </a:lnTo>
                  <a:lnTo>
                    <a:pt x="360" y="4487"/>
                  </a:lnTo>
                  <a:lnTo>
                    <a:pt x="361" y="4754"/>
                  </a:lnTo>
                  <a:lnTo>
                    <a:pt x="363" y="5026"/>
                  </a:lnTo>
                  <a:lnTo>
                    <a:pt x="365" y="5295"/>
                  </a:lnTo>
                  <a:lnTo>
                    <a:pt x="367" y="5555"/>
                  </a:lnTo>
                  <a:lnTo>
                    <a:pt x="368" y="5801"/>
                  </a:lnTo>
                  <a:lnTo>
                    <a:pt x="369" y="6028"/>
                  </a:lnTo>
                  <a:lnTo>
                    <a:pt x="369" y="6228"/>
                  </a:lnTo>
                  <a:lnTo>
                    <a:pt x="370" y="6396"/>
                  </a:lnTo>
                  <a:lnTo>
                    <a:pt x="379" y="6540"/>
                  </a:lnTo>
                  <a:lnTo>
                    <a:pt x="398" y="6670"/>
                  </a:lnTo>
                  <a:lnTo>
                    <a:pt x="428" y="6787"/>
                  </a:lnTo>
                  <a:lnTo>
                    <a:pt x="467" y="6892"/>
                  </a:lnTo>
                  <a:lnTo>
                    <a:pt x="514" y="6985"/>
                  </a:lnTo>
                  <a:lnTo>
                    <a:pt x="568" y="7066"/>
                  </a:lnTo>
                  <a:lnTo>
                    <a:pt x="630" y="7137"/>
                  </a:lnTo>
                  <a:lnTo>
                    <a:pt x="698" y="7198"/>
                  </a:lnTo>
                  <a:lnTo>
                    <a:pt x="770" y="7249"/>
                  </a:lnTo>
                  <a:lnTo>
                    <a:pt x="849" y="7292"/>
                  </a:lnTo>
                  <a:lnTo>
                    <a:pt x="930" y="7326"/>
                  </a:lnTo>
                  <a:lnTo>
                    <a:pt x="1016" y="7353"/>
                  </a:lnTo>
                  <a:lnTo>
                    <a:pt x="1103" y="7374"/>
                  </a:lnTo>
                  <a:lnTo>
                    <a:pt x="1193" y="7387"/>
                  </a:lnTo>
                  <a:lnTo>
                    <a:pt x="1283" y="7394"/>
                  </a:lnTo>
                  <a:lnTo>
                    <a:pt x="1374" y="7396"/>
                  </a:lnTo>
                  <a:lnTo>
                    <a:pt x="1406" y="7396"/>
                  </a:lnTo>
                  <a:lnTo>
                    <a:pt x="1450" y="7392"/>
                  </a:lnTo>
                  <a:lnTo>
                    <a:pt x="1507" y="7386"/>
                  </a:lnTo>
                  <a:lnTo>
                    <a:pt x="1572" y="7374"/>
                  </a:lnTo>
                  <a:lnTo>
                    <a:pt x="1643" y="7355"/>
                  </a:lnTo>
                  <a:lnTo>
                    <a:pt x="1719" y="7330"/>
                  </a:lnTo>
                  <a:lnTo>
                    <a:pt x="1798" y="7295"/>
                  </a:lnTo>
                  <a:lnTo>
                    <a:pt x="1877" y="7251"/>
                  </a:lnTo>
                  <a:lnTo>
                    <a:pt x="1955" y="7197"/>
                  </a:lnTo>
                  <a:lnTo>
                    <a:pt x="2028" y="7129"/>
                  </a:lnTo>
                  <a:lnTo>
                    <a:pt x="2097" y="7048"/>
                  </a:lnTo>
                  <a:lnTo>
                    <a:pt x="2157" y="6952"/>
                  </a:lnTo>
                  <a:lnTo>
                    <a:pt x="2209" y="6841"/>
                  </a:lnTo>
                  <a:lnTo>
                    <a:pt x="2246" y="6711"/>
                  </a:lnTo>
                  <a:lnTo>
                    <a:pt x="2272" y="6564"/>
                  </a:lnTo>
                  <a:lnTo>
                    <a:pt x="2281" y="6396"/>
                  </a:lnTo>
                  <a:lnTo>
                    <a:pt x="2276" y="6245"/>
                  </a:lnTo>
                  <a:lnTo>
                    <a:pt x="2273" y="6019"/>
                  </a:lnTo>
                  <a:lnTo>
                    <a:pt x="2270" y="5730"/>
                  </a:lnTo>
                  <a:lnTo>
                    <a:pt x="2265" y="5388"/>
                  </a:lnTo>
                  <a:lnTo>
                    <a:pt x="2262" y="5006"/>
                  </a:lnTo>
                  <a:lnTo>
                    <a:pt x="2260" y="4592"/>
                  </a:lnTo>
                  <a:lnTo>
                    <a:pt x="2256" y="4160"/>
                  </a:lnTo>
                  <a:lnTo>
                    <a:pt x="2253" y="3718"/>
                  </a:lnTo>
                  <a:lnTo>
                    <a:pt x="2251" y="3280"/>
                  </a:lnTo>
                  <a:lnTo>
                    <a:pt x="2249" y="2856"/>
                  </a:lnTo>
                  <a:lnTo>
                    <a:pt x="2246" y="2456"/>
                  </a:lnTo>
                  <a:lnTo>
                    <a:pt x="2244" y="2092"/>
                  </a:lnTo>
                  <a:lnTo>
                    <a:pt x="2243" y="1775"/>
                  </a:lnTo>
                  <a:lnTo>
                    <a:pt x="2242" y="1516"/>
                  </a:lnTo>
                  <a:lnTo>
                    <a:pt x="2242" y="1214"/>
                  </a:lnTo>
                  <a:lnTo>
                    <a:pt x="2233" y="1033"/>
                  </a:lnTo>
                  <a:lnTo>
                    <a:pt x="2210" y="871"/>
                  </a:lnTo>
                  <a:lnTo>
                    <a:pt x="2173" y="724"/>
                  </a:lnTo>
                  <a:lnTo>
                    <a:pt x="2123" y="596"/>
                  </a:lnTo>
                  <a:lnTo>
                    <a:pt x="2063" y="483"/>
                  </a:lnTo>
                  <a:lnTo>
                    <a:pt x="1994" y="384"/>
                  </a:lnTo>
                  <a:lnTo>
                    <a:pt x="1916" y="298"/>
                  </a:lnTo>
                  <a:lnTo>
                    <a:pt x="1834" y="226"/>
                  </a:lnTo>
                  <a:lnTo>
                    <a:pt x="1745" y="166"/>
                  </a:lnTo>
                  <a:lnTo>
                    <a:pt x="1654" y="116"/>
                  </a:lnTo>
                  <a:lnTo>
                    <a:pt x="1561" y="77"/>
                  </a:lnTo>
                  <a:lnTo>
                    <a:pt x="1467" y="47"/>
                  </a:lnTo>
                  <a:lnTo>
                    <a:pt x="1376" y="26"/>
                  </a:lnTo>
                  <a:lnTo>
                    <a:pt x="1286" y="11"/>
                  </a:lnTo>
                  <a:lnTo>
                    <a:pt x="1202" y="3"/>
                  </a:lnTo>
                  <a:lnTo>
                    <a:pt x="1123" y="0"/>
                  </a:lnTo>
                  <a:lnTo>
                    <a:pt x="931" y="9"/>
                  </a:lnTo>
                  <a:lnTo>
                    <a:pt x="762" y="36"/>
                  </a:lnTo>
                  <a:lnTo>
                    <a:pt x="616" y="77"/>
                  </a:lnTo>
                  <a:lnTo>
                    <a:pt x="489" y="134"/>
                  </a:lnTo>
                  <a:lnTo>
                    <a:pt x="380" y="204"/>
                  </a:lnTo>
                  <a:lnTo>
                    <a:pt x="288" y="285"/>
                  </a:lnTo>
                  <a:lnTo>
                    <a:pt x="212" y="377"/>
                  </a:lnTo>
                  <a:lnTo>
                    <a:pt x="150" y="479"/>
                  </a:lnTo>
                  <a:lnTo>
                    <a:pt x="101" y="588"/>
                  </a:lnTo>
                  <a:lnTo>
                    <a:pt x="63" y="704"/>
                  </a:lnTo>
                  <a:lnTo>
                    <a:pt x="37" y="824"/>
                  </a:lnTo>
                  <a:lnTo>
                    <a:pt x="18" y="950"/>
                  </a:lnTo>
                  <a:lnTo>
                    <a:pt x="7" y="1077"/>
                  </a:lnTo>
                  <a:lnTo>
                    <a:pt x="1" y="1207"/>
                  </a:lnTo>
                  <a:lnTo>
                    <a:pt x="0" y="1337"/>
                  </a:lnTo>
                  <a:lnTo>
                    <a:pt x="3" y="1464"/>
                  </a:lnTo>
                  <a:lnTo>
                    <a:pt x="3" y="1626"/>
                  </a:lnTo>
                  <a:lnTo>
                    <a:pt x="4" y="1902"/>
                  </a:lnTo>
                  <a:lnTo>
                    <a:pt x="7" y="2275"/>
                  </a:lnTo>
                  <a:lnTo>
                    <a:pt x="9" y="2731"/>
                  </a:lnTo>
                  <a:lnTo>
                    <a:pt x="12" y="3252"/>
                  </a:lnTo>
                  <a:lnTo>
                    <a:pt x="16" y="3820"/>
                  </a:lnTo>
                  <a:lnTo>
                    <a:pt x="19" y="4419"/>
                  </a:lnTo>
                  <a:lnTo>
                    <a:pt x="22" y="5031"/>
                  </a:lnTo>
                  <a:lnTo>
                    <a:pt x="26" y="5642"/>
                  </a:lnTo>
                  <a:lnTo>
                    <a:pt x="29" y="6230"/>
                  </a:lnTo>
                  <a:lnTo>
                    <a:pt x="32" y="6783"/>
                  </a:lnTo>
                  <a:lnTo>
                    <a:pt x="36" y="7281"/>
                  </a:lnTo>
                  <a:lnTo>
                    <a:pt x="38" y="7709"/>
                  </a:lnTo>
                  <a:lnTo>
                    <a:pt x="40" y="8049"/>
                  </a:lnTo>
                  <a:lnTo>
                    <a:pt x="41" y="8283"/>
                  </a:lnTo>
                  <a:lnTo>
                    <a:pt x="42" y="8397"/>
                  </a:lnTo>
                  <a:lnTo>
                    <a:pt x="42" y="8454"/>
                  </a:lnTo>
                  <a:lnTo>
                    <a:pt x="43" y="8528"/>
                  </a:lnTo>
                  <a:lnTo>
                    <a:pt x="48" y="8619"/>
                  </a:lnTo>
                  <a:lnTo>
                    <a:pt x="59" y="8721"/>
                  </a:lnTo>
                  <a:lnTo>
                    <a:pt x="76" y="8831"/>
                  </a:lnTo>
                  <a:lnTo>
                    <a:pt x="102" y="8948"/>
                  </a:lnTo>
                  <a:lnTo>
                    <a:pt x="140" y="9069"/>
                  </a:lnTo>
                  <a:lnTo>
                    <a:pt x="191" y="9188"/>
                  </a:lnTo>
                  <a:lnTo>
                    <a:pt x="257" y="9305"/>
                  </a:lnTo>
                  <a:lnTo>
                    <a:pt x="339" y="9416"/>
                  </a:lnTo>
                  <a:lnTo>
                    <a:pt x="440" y="9518"/>
                  </a:lnTo>
                  <a:lnTo>
                    <a:pt x="562" y="9609"/>
                  </a:lnTo>
                  <a:lnTo>
                    <a:pt x="707" y="9684"/>
                  </a:lnTo>
                  <a:lnTo>
                    <a:pt x="876" y="9742"/>
                  </a:lnTo>
                  <a:lnTo>
                    <a:pt x="1071" y="9779"/>
                  </a:lnTo>
                  <a:lnTo>
                    <a:pt x="1296" y="9791"/>
                  </a:lnTo>
                  <a:lnTo>
                    <a:pt x="1523" y="9778"/>
                  </a:lnTo>
                  <a:lnTo>
                    <a:pt x="1723" y="9746"/>
                  </a:lnTo>
                  <a:lnTo>
                    <a:pt x="1896" y="9697"/>
                  </a:lnTo>
                  <a:lnTo>
                    <a:pt x="2045" y="9635"/>
                  </a:lnTo>
                  <a:lnTo>
                    <a:pt x="2172" y="9558"/>
                  </a:lnTo>
                  <a:lnTo>
                    <a:pt x="2277" y="9471"/>
                  </a:lnTo>
                  <a:lnTo>
                    <a:pt x="2364" y="9375"/>
                  </a:lnTo>
                  <a:lnTo>
                    <a:pt x="2434" y="9272"/>
                  </a:lnTo>
                  <a:lnTo>
                    <a:pt x="2489" y="9165"/>
                  </a:lnTo>
                  <a:lnTo>
                    <a:pt x="2529" y="9054"/>
                  </a:lnTo>
                  <a:lnTo>
                    <a:pt x="2558" y="8942"/>
                  </a:lnTo>
                  <a:lnTo>
                    <a:pt x="2576" y="8831"/>
                  </a:lnTo>
                  <a:lnTo>
                    <a:pt x="2588" y="8723"/>
                  </a:lnTo>
                  <a:lnTo>
                    <a:pt x="2591" y="8619"/>
                  </a:lnTo>
                  <a:lnTo>
                    <a:pt x="2591" y="8522"/>
                  </a:lnTo>
                  <a:lnTo>
                    <a:pt x="2589" y="8433"/>
                  </a:lnTo>
                  <a:lnTo>
                    <a:pt x="2588" y="8282"/>
                  </a:lnTo>
                  <a:lnTo>
                    <a:pt x="2588" y="8047"/>
                  </a:lnTo>
                  <a:lnTo>
                    <a:pt x="2586" y="7739"/>
                  </a:lnTo>
                  <a:lnTo>
                    <a:pt x="2585" y="7374"/>
                  </a:lnTo>
                  <a:lnTo>
                    <a:pt x="2584" y="6961"/>
                  </a:lnTo>
                  <a:lnTo>
                    <a:pt x="2582" y="6516"/>
                  </a:lnTo>
                  <a:lnTo>
                    <a:pt x="2581" y="6052"/>
                  </a:lnTo>
                  <a:lnTo>
                    <a:pt x="2579" y="5581"/>
                  </a:lnTo>
                  <a:lnTo>
                    <a:pt x="2576" y="5117"/>
                  </a:lnTo>
                  <a:lnTo>
                    <a:pt x="2575" y="4672"/>
                  </a:lnTo>
                  <a:lnTo>
                    <a:pt x="2573" y="4259"/>
                  </a:lnTo>
                  <a:lnTo>
                    <a:pt x="2572" y="3893"/>
                  </a:lnTo>
                  <a:lnTo>
                    <a:pt x="2571" y="3585"/>
                  </a:lnTo>
                  <a:lnTo>
                    <a:pt x="2570" y="3349"/>
                  </a:lnTo>
                  <a:lnTo>
                    <a:pt x="2570" y="3144"/>
                  </a:lnTo>
                  <a:lnTo>
                    <a:pt x="2357" y="3144"/>
                  </a:lnTo>
                  <a:lnTo>
                    <a:pt x="2396" y="8397"/>
                  </a:lnTo>
                  <a:lnTo>
                    <a:pt x="2392" y="8548"/>
                  </a:lnTo>
                  <a:lnTo>
                    <a:pt x="2381" y="8688"/>
                  </a:lnTo>
                  <a:lnTo>
                    <a:pt x="2361" y="8814"/>
                  </a:lnTo>
                  <a:lnTo>
                    <a:pt x="2334" y="8930"/>
                  </a:lnTo>
                  <a:lnTo>
                    <a:pt x="2299" y="9035"/>
                  </a:lnTo>
                  <a:lnTo>
                    <a:pt x="2255" y="9128"/>
                  </a:lnTo>
                  <a:lnTo>
                    <a:pt x="2204" y="9212"/>
                  </a:lnTo>
                  <a:lnTo>
                    <a:pt x="2145" y="9284"/>
                  </a:lnTo>
                  <a:lnTo>
                    <a:pt x="2077" y="9347"/>
                  </a:lnTo>
                  <a:lnTo>
                    <a:pt x="2002" y="9401"/>
                  </a:lnTo>
                  <a:lnTo>
                    <a:pt x="1918" y="9445"/>
                  </a:lnTo>
                  <a:lnTo>
                    <a:pt x="1826" y="9480"/>
                  </a:lnTo>
                  <a:lnTo>
                    <a:pt x="1725" y="9508"/>
                  </a:lnTo>
                  <a:lnTo>
                    <a:pt x="1616" y="9526"/>
                  </a:lnTo>
                  <a:lnTo>
                    <a:pt x="1499" y="9538"/>
                  </a:lnTo>
                  <a:lnTo>
                    <a:pt x="1374" y="9541"/>
                  </a:lnTo>
                  <a:lnTo>
                    <a:pt x="1244" y="9538"/>
                  </a:lnTo>
                  <a:lnTo>
                    <a:pt x="1121" y="9525"/>
                  </a:lnTo>
                  <a:lnTo>
                    <a:pt x="1008" y="9506"/>
                  </a:lnTo>
                  <a:lnTo>
                    <a:pt x="903" y="9478"/>
                  </a:lnTo>
                  <a:lnTo>
                    <a:pt x="806" y="9440"/>
                  </a:lnTo>
                  <a:lnTo>
                    <a:pt x="717" y="9395"/>
                  </a:lnTo>
                  <a:lnTo>
                    <a:pt x="637" y="9338"/>
                  </a:lnTo>
                  <a:lnTo>
                    <a:pt x="565" y="9273"/>
                  </a:lnTo>
                  <a:lnTo>
                    <a:pt x="501" y="9198"/>
                  </a:lnTo>
                  <a:lnTo>
                    <a:pt x="446" y="9112"/>
                  </a:lnTo>
                  <a:lnTo>
                    <a:pt x="399" y="9015"/>
                  </a:lnTo>
                  <a:lnTo>
                    <a:pt x="360" y="8908"/>
                  </a:lnTo>
                  <a:lnTo>
                    <a:pt x="330" y="8790"/>
                  </a:lnTo>
                  <a:lnTo>
                    <a:pt x="309" y="8659"/>
                  </a:lnTo>
                  <a:lnTo>
                    <a:pt x="296" y="8517"/>
                  </a:lnTo>
                  <a:lnTo>
                    <a:pt x="292" y="8362"/>
                  </a:lnTo>
                  <a:lnTo>
                    <a:pt x="291" y="8143"/>
                  </a:lnTo>
                  <a:lnTo>
                    <a:pt x="290" y="7819"/>
                  </a:lnTo>
                  <a:lnTo>
                    <a:pt x="288" y="7407"/>
                  </a:lnTo>
                  <a:lnTo>
                    <a:pt x="286" y="6922"/>
                  </a:lnTo>
                  <a:lnTo>
                    <a:pt x="283" y="6383"/>
                  </a:lnTo>
                  <a:lnTo>
                    <a:pt x="280" y="5802"/>
                  </a:lnTo>
                  <a:lnTo>
                    <a:pt x="277" y="5200"/>
                  </a:lnTo>
                  <a:lnTo>
                    <a:pt x="273" y="4592"/>
                  </a:lnTo>
                  <a:lnTo>
                    <a:pt x="269" y="3993"/>
                  </a:lnTo>
                  <a:lnTo>
                    <a:pt x="266" y="3421"/>
                  </a:lnTo>
                  <a:lnTo>
                    <a:pt x="262" y="2892"/>
                  </a:lnTo>
                  <a:lnTo>
                    <a:pt x="260" y="2422"/>
                  </a:lnTo>
                  <a:lnTo>
                    <a:pt x="258" y="2028"/>
                  </a:lnTo>
                  <a:lnTo>
                    <a:pt x="256" y="1726"/>
                  </a:lnTo>
                  <a:lnTo>
                    <a:pt x="255" y="1533"/>
                  </a:lnTo>
                  <a:lnTo>
                    <a:pt x="255" y="1464"/>
                  </a:lnTo>
                  <a:lnTo>
                    <a:pt x="259" y="1272"/>
                  </a:lnTo>
                  <a:lnTo>
                    <a:pt x="272" y="1102"/>
                  </a:lnTo>
                  <a:lnTo>
                    <a:pt x="295" y="953"/>
                  </a:lnTo>
                  <a:lnTo>
                    <a:pt x="323" y="823"/>
                  </a:lnTo>
                  <a:lnTo>
                    <a:pt x="361" y="712"/>
                  </a:lnTo>
                  <a:lnTo>
                    <a:pt x="405" y="617"/>
                  </a:lnTo>
                  <a:lnTo>
                    <a:pt x="455" y="538"/>
                  </a:lnTo>
                  <a:lnTo>
                    <a:pt x="509" y="473"/>
                  </a:lnTo>
                  <a:lnTo>
                    <a:pt x="569" y="421"/>
                  </a:lnTo>
                  <a:lnTo>
                    <a:pt x="635" y="380"/>
                  </a:lnTo>
                  <a:lnTo>
                    <a:pt x="702" y="348"/>
                  </a:lnTo>
                  <a:lnTo>
                    <a:pt x="775" y="324"/>
                  </a:lnTo>
                  <a:lnTo>
                    <a:pt x="849" y="308"/>
                  </a:lnTo>
                  <a:lnTo>
                    <a:pt x="926" y="296"/>
                  </a:lnTo>
                  <a:lnTo>
                    <a:pt x="1004" y="290"/>
                  </a:lnTo>
                  <a:lnTo>
                    <a:pt x="1084" y="285"/>
                  </a:lnTo>
                  <a:lnTo>
                    <a:pt x="1186" y="288"/>
                  </a:lnTo>
                  <a:lnTo>
                    <a:pt x="1286" y="297"/>
                  </a:lnTo>
                  <a:lnTo>
                    <a:pt x="1380" y="313"/>
                  </a:lnTo>
                  <a:lnTo>
                    <a:pt x="1471" y="335"/>
                  </a:lnTo>
                  <a:lnTo>
                    <a:pt x="1555" y="364"/>
                  </a:lnTo>
                  <a:lnTo>
                    <a:pt x="1635" y="400"/>
                  </a:lnTo>
                  <a:lnTo>
                    <a:pt x="1708" y="444"/>
                  </a:lnTo>
                  <a:lnTo>
                    <a:pt x="1776" y="494"/>
                  </a:lnTo>
                  <a:lnTo>
                    <a:pt x="1836" y="553"/>
                  </a:lnTo>
                  <a:lnTo>
                    <a:pt x="1891" y="618"/>
                  </a:lnTo>
                  <a:lnTo>
                    <a:pt x="1937" y="694"/>
                  </a:lnTo>
                  <a:lnTo>
                    <a:pt x="1976" y="776"/>
                  </a:lnTo>
                  <a:lnTo>
                    <a:pt x="2007" y="868"/>
                  </a:lnTo>
                  <a:lnTo>
                    <a:pt x="2030" y="968"/>
                  </a:lnTo>
                  <a:lnTo>
                    <a:pt x="2043" y="1079"/>
                  </a:lnTo>
                  <a:lnTo>
                    <a:pt x="2048" y="119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494E-4E59-4EEC-9C23-46AD2BFC0C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Intuitive Thinking (NT)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ar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ant their children to want to lear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et goals for future learning and improv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mmunicate with family clearly and concise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t times may use constructive criticism instead of prai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xpect logical and rational responses from fami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ant family to try to achieve the same high expectations they set for themselv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447920" y="457200"/>
            <a:ext cx="7238880" cy="1066680"/>
            <a:chOff x="1447920" y="457200"/>
            <a:chExt cx="7238880" cy="106668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1447920" y="457200"/>
              <a:ext cx="60948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8077320" y="533520"/>
              <a:ext cx="609480" cy="99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45F-9D4E-4DDB-A6E2-D954D3CC7F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Intuitive Feeling (NF)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ar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o not feel there is any one “right” parenting sty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se humor when dealing with confli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o not mind others helping with family issu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re active and have fun with fami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ry new, innovative ways to solve proble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Feel children should do well in whatever they attempt to 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ncourage children to be adventuro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371600" y="380880"/>
            <a:ext cx="7467480" cy="1143000"/>
            <a:chOff x="1371600" y="380880"/>
            <a:chExt cx="7467480" cy="114300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7848720" y="380880"/>
              <a:ext cx="990360" cy="1143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59" name=""/>
            <p:cNvGraphicFramePr/>
            <p:nvPr/>
          </p:nvGraphicFramePr>
          <p:xfrm>
            <a:off x="1371600" y="380880"/>
            <a:ext cx="990720" cy="1143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71600" y="380880"/>
                      <a:ext cx="99072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08D6-AB83-45E8-93C5-5B6C32917A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Goal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imes New Roman"/>
              </a:rPr>
              <a:t>To create an awareness of learning styl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2710-0277-497A-80A3-7740CA7712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ensing Feeling (SF)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ar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ut the needs of the family before their ow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ant a happy, warm home environ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njoy family gatherings and fun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ry to avoid conflict and competi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May be inconsistent with rules and discipli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Focus on what makes the family happy instead of what may need to be do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trive for open, personal communication among family memb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447920" y="380880"/>
            <a:ext cx="7315200" cy="1143000"/>
            <a:chOff x="1447920" y="380880"/>
            <a:chExt cx="7315200" cy="114300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1447920" y="3808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7620120" y="38088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0428-5889-43B9-B012-4A33CE7971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In A Nutshell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o one learning style is better than anothe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e all have characteristics of each learning style; some characteristics are just stronger than other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Learning about each style will help us to better understand and communicate with our childr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Knowing about each learning style and exposing your child to them will help your child be better able to communicate with other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2362320" cy="1409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920" y="5715000"/>
            <a:ext cx="2057400" cy="11912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0b5b"/>
                </a:solidFill>
                <a:latin typeface="Times New Roman"/>
              </a:rPr>
              <a:t>Don’t forget to complete our online survey on the last slide!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B0EA-F20E-4419-B2DD-FC24D226EC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           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ease click on the link below to take a short online survey. Type in your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password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learningsty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Parent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Surve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insert link he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Educator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Survey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nsert link he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58572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D484-B060-4A23-BAF7-A3D719E2D6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lease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mplete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valuation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09320" y="19807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 more information contact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3886200" cy="1586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219320" y="4343400"/>
            <a:ext cx="7772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2735 Whitney Roa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Clearwater, Florida   3376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Office: 727-523-1130 or 800-825-573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Fax: 727-523-868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www.fndfl.or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895480" y="2666880"/>
            <a:ext cx="1067040" cy="155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D5EE-7772-4C60-9C3F-26B98B4ED9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4500"/>
                            </p:stCondLst>
                            <p:childTnLst>
                              <p:par>
                                <p:cTn id="7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Objective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imes New Roman"/>
              </a:rPr>
              <a:t>To provide parents with strategies on how to address each learning styl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35CB-9918-414C-909E-6262251566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Understanding Your Child’s  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Learning Style - Agend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What is a learning styl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Overview of each of the four dominant learning sty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ow to determine learning sty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ow to set up a study area for each learning sty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Activities to do for each learning sty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Parenting sty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5D83-E5AE-4A83-A6F7-B5631B8B4C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hy should I care about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learning style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The way a child learns affects his/her entire personality and developmen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Understanding a child’s learning style will help parents and children to better communicat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By knowing a child’s learning style, parents are better able to help at home and at schoo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5F90-81FC-46D1-9F5D-0B2F28D6C7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hat is a learning styl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A learning style i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a way to take in and process inform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a preference that gets stronger the more it is us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the way the mind opera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the way we learn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9487-FBD1-4B5B-94B0-784D1B5FAE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S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nsing </a:t>
            </a: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T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hinking Learne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(ST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Lik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mmediate responses and feedb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etails and sequential or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Hands-on activities with a specific, correct 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lear, concise, step-by-step dire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Knowing exact expectations; why something has to be done, and how well it is to be do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rill and practi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48720" y="1066680"/>
            <a:ext cx="533160" cy="1725840"/>
          </a:xfrm>
          <a:custGeom>
            <a:avLst/>
            <a:gdLst/>
            <a:ahLst/>
            <a:rect l="l" t="t" r="r" b="b"/>
            <a:pathLst>
              <a:path w="2351" h="9782">
                <a:moveTo>
                  <a:pt x="1859" y="1196"/>
                </a:moveTo>
                <a:lnTo>
                  <a:pt x="1859" y="1501"/>
                </a:lnTo>
                <a:lnTo>
                  <a:pt x="1860" y="1769"/>
                </a:lnTo>
                <a:lnTo>
                  <a:pt x="1861" y="2098"/>
                </a:lnTo>
                <a:lnTo>
                  <a:pt x="1863" y="2476"/>
                </a:lnTo>
                <a:lnTo>
                  <a:pt x="1864" y="2890"/>
                </a:lnTo>
                <a:lnTo>
                  <a:pt x="1866" y="3328"/>
                </a:lnTo>
                <a:lnTo>
                  <a:pt x="1868" y="3780"/>
                </a:lnTo>
                <a:lnTo>
                  <a:pt x="1869" y="4232"/>
                </a:lnTo>
                <a:lnTo>
                  <a:pt x="1871" y="4672"/>
                </a:lnTo>
                <a:lnTo>
                  <a:pt x="1872" y="5088"/>
                </a:lnTo>
                <a:lnTo>
                  <a:pt x="1874" y="5469"/>
                </a:lnTo>
                <a:lnTo>
                  <a:pt x="1875" y="5801"/>
                </a:lnTo>
                <a:lnTo>
                  <a:pt x="1876" y="6073"/>
                </a:lnTo>
                <a:lnTo>
                  <a:pt x="1876" y="6274"/>
                </a:lnTo>
                <a:lnTo>
                  <a:pt x="1877" y="6390"/>
                </a:lnTo>
                <a:lnTo>
                  <a:pt x="1874" y="6461"/>
                </a:lnTo>
                <a:lnTo>
                  <a:pt x="1868" y="6531"/>
                </a:lnTo>
                <a:lnTo>
                  <a:pt x="1857" y="6601"/>
                </a:lnTo>
                <a:lnTo>
                  <a:pt x="1842" y="6669"/>
                </a:lnTo>
                <a:lnTo>
                  <a:pt x="1820" y="6734"/>
                </a:lnTo>
                <a:lnTo>
                  <a:pt x="1795" y="6798"/>
                </a:lnTo>
                <a:lnTo>
                  <a:pt x="1764" y="6859"/>
                </a:lnTo>
                <a:lnTo>
                  <a:pt x="1728" y="6914"/>
                </a:lnTo>
                <a:lnTo>
                  <a:pt x="1685" y="6967"/>
                </a:lnTo>
                <a:lnTo>
                  <a:pt x="1637" y="7014"/>
                </a:lnTo>
                <a:lnTo>
                  <a:pt x="1582" y="7055"/>
                </a:lnTo>
                <a:lnTo>
                  <a:pt x="1522" y="7090"/>
                </a:lnTo>
                <a:lnTo>
                  <a:pt x="1454" y="7119"/>
                </a:lnTo>
                <a:lnTo>
                  <a:pt x="1380" y="7140"/>
                </a:lnTo>
                <a:lnTo>
                  <a:pt x="1299" y="7153"/>
                </a:lnTo>
                <a:lnTo>
                  <a:pt x="1211" y="7157"/>
                </a:lnTo>
                <a:lnTo>
                  <a:pt x="1101" y="7151"/>
                </a:lnTo>
                <a:lnTo>
                  <a:pt x="1005" y="7131"/>
                </a:lnTo>
                <a:lnTo>
                  <a:pt x="919" y="7101"/>
                </a:lnTo>
                <a:lnTo>
                  <a:pt x="842" y="7060"/>
                </a:lnTo>
                <a:lnTo>
                  <a:pt x="777" y="7011"/>
                </a:lnTo>
                <a:lnTo>
                  <a:pt x="719" y="6957"/>
                </a:lnTo>
                <a:lnTo>
                  <a:pt x="671" y="6896"/>
                </a:lnTo>
                <a:lnTo>
                  <a:pt x="630" y="6832"/>
                </a:lnTo>
                <a:lnTo>
                  <a:pt x="597" y="6766"/>
                </a:lnTo>
                <a:lnTo>
                  <a:pt x="570" y="6700"/>
                </a:lnTo>
                <a:lnTo>
                  <a:pt x="549" y="6634"/>
                </a:lnTo>
                <a:lnTo>
                  <a:pt x="534" y="6571"/>
                </a:lnTo>
                <a:lnTo>
                  <a:pt x="522" y="6511"/>
                </a:lnTo>
                <a:lnTo>
                  <a:pt x="514" y="6458"/>
                </a:lnTo>
                <a:lnTo>
                  <a:pt x="511" y="6412"/>
                </a:lnTo>
                <a:lnTo>
                  <a:pt x="510" y="6373"/>
                </a:lnTo>
                <a:lnTo>
                  <a:pt x="509" y="6308"/>
                </a:lnTo>
                <a:lnTo>
                  <a:pt x="509" y="6184"/>
                </a:lnTo>
                <a:lnTo>
                  <a:pt x="508" y="6012"/>
                </a:lnTo>
                <a:lnTo>
                  <a:pt x="507" y="5798"/>
                </a:lnTo>
                <a:lnTo>
                  <a:pt x="506" y="5553"/>
                </a:lnTo>
                <a:lnTo>
                  <a:pt x="504" y="5284"/>
                </a:lnTo>
                <a:lnTo>
                  <a:pt x="503" y="4999"/>
                </a:lnTo>
                <a:lnTo>
                  <a:pt x="501" y="4708"/>
                </a:lnTo>
                <a:lnTo>
                  <a:pt x="499" y="4419"/>
                </a:lnTo>
                <a:lnTo>
                  <a:pt x="498" y="4141"/>
                </a:lnTo>
                <a:lnTo>
                  <a:pt x="496" y="3882"/>
                </a:lnTo>
                <a:lnTo>
                  <a:pt x="495" y="3652"/>
                </a:lnTo>
                <a:lnTo>
                  <a:pt x="494" y="3457"/>
                </a:lnTo>
                <a:lnTo>
                  <a:pt x="493" y="3308"/>
                </a:lnTo>
                <a:lnTo>
                  <a:pt x="493" y="3177"/>
                </a:lnTo>
                <a:lnTo>
                  <a:pt x="318" y="3177"/>
                </a:lnTo>
                <a:lnTo>
                  <a:pt x="318" y="3283"/>
                </a:lnTo>
                <a:lnTo>
                  <a:pt x="319" y="3405"/>
                </a:lnTo>
                <a:lnTo>
                  <a:pt x="320" y="3567"/>
                </a:lnTo>
                <a:lnTo>
                  <a:pt x="322" y="3761"/>
                </a:lnTo>
                <a:lnTo>
                  <a:pt x="323" y="3982"/>
                </a:lnTo>
                <a:lnTo>
                  <a:pt x="325" y="4225"/>
                </a:lnTo>
                <a:lnTo>
                  <a:pt x="327" y="4483"/>
                </a:lnTo>
                <a:lnTo>
                  <a:pt x="328" y="4750"/>
                </a:lnTo>
                <a:lnTo>
                  <a:pt x="330" y="5022"/>
                </a:lnTo>
                <a:lnTo>
                  <a:pt x="331" y="5290"/>
                </a:lnTo>
                <a:lnTo>
                  <a:pt x="333" y="5550"/>
                </a:lnTo>
                <a:lnTo>
                  <a:pt x="334" y="5796"/>
                </a:lnTo>
                <a:lnTo>
                  <a:pt x="335" y="6022"/>
                </a:lnTo>
                <a:lnTo>
                  <a:pt x="335" y="6222"/>
                </a:lnTo>
                <a:lnTo>
                  <a:pt x="336" y="6390"/>
                </a:lnTo>
                <a:lnTo>
                  <a:pt x="344" y="6534"/>
                </a:lnTo>
                <a:lnTo>
                  <a:pt x="361" y="6664"/>
                </a:lnTo>
                <a:lnTo>
                  <a:pt x="388" y="6781"/>
                </a:lnTo>
                <a:lnTo>
                  <a:pt x="424" y="6886"/>
                </a:lnTo>
                <a:lnTo>
                  <a:pt x="466" y="6978"/>
                </a:lnTo>
                <a:lnTo>
                  <a:pt x="515" y="7059"/>
                </a:lnTo>
                <a:lnTo>
                  <a:pt x="572" y="7130"/>
                </a:lnTo>
                <a:lnTo>
                  <a:pt x="633" y="7191"/>
                </a:lnTo>
                <a:lnTo>
                  <a:pt x="699" y="7242"/>
                </a:lnTo>
                <a:lnTo>
                  <a:pt x="771" y="7286"/>
                </a:lnTo>
                <a:lnTo>
                  <a:pt x="844" y="7320"/>
                </a:lnTo>
                <a:lnTo>
                  <a:pt x="922" y="7346"/>
                </a:lnTo>
                <a:lnTo>
                  <a:pt x="1001" y="7367"/>
                </a:lnTo>
                <a:lnTo>
                  <a:pt x="1082" y="7380"/>
                </a:lnTo>
                <a:lnTo>
                  <a:pt x="1164" y="7387"/>
                </a:lnTo>
                <a:lnTo>
                  <a:pt x="1247" y="7389"/>
                </a:lnTo>
                <a:lnTo>
                  <a:pt x="1276" y="7389"/>
                </a:lnTo>
                <a:lnTo>
                  <a:pt x="1316" y="7385"/>
                </a:lnTo>
                <a:lnTo>
                  <a:pt x="1368" y="7379"/>
                </a:lnTo>
                <a:lnTo>
                  <a:pt x="1426" y="7367"/>
                </a:lnTo>
                <a:lnTo>
                  <a:pt x="1491" y="7348"/>
                </a:lnTo>
                <a:lnTo>
                  <a:pt x="1560" y="7324"/>
                </a:lnTo>
                <a:lnTo>
                  <a:pt x="1632" y="7289"/>
                </a:lnTo>
                <a:lnTo>
                  <a:pt x="1703" y="7244"/>
                </a:lnTo>
                <a:lnTo>
                  <a:pt x="1774" y="7190"/>
                </a:lnTo>
                <a:lnTo>
                  <a:pt x="1841" y="7122"/>
                </a:lnTo>
                <a:lnTo>
                  <a:pt x="1903" y="7042"/>
                </a:lnTo>
                <a:lnTo>
                  <a:pt x="1958" y="6945"/>
                </a:lnTo>
                <a:lnTo>
                  <a:pt x="2004" y="6834"/>
                </a:lnTo>
                <a:lnTo>
                  <a:pt x="2038" y="6705"/>
                </a:lnTo>
                <a:lnTo>
                  <a:pt x="2062" y="6558"/>
                </a:lnTo>
                <a:lnTo>
                  <a:pt x="2070" y="6390"/>
                </a:lnTo>
                <a:lnTo>
                  <a:pt x="2066" y="6239"/>
                </a:lnTo>
                <a:lnTo>
                  <a:pt x="2063" y="6014"/>
                </a:lnTo>
                <a:lnTo>
                  <a:pt x="2060" y="5725"/>
                </a:lnTo>
                <a:lnTo>
                  <a:pt x="2055" y="5383"/>
                </a:lnTo>
                <a:lnTo>
                  <a:pt x="2052" y="5001"/>
                </a:lnTo>
                <a:lnTo>
                  <a:pt x="2050" y="4588"/>
                </a:lnTo>
                <a:lnTo>
                  <a:pt x="2047" y="4156"/>
                </a:lnTo>
                <a:lnTo>
                  <a:pt x="2044" y="3715"/>
                </a:lnTo>
                <a:lnTo>
                  <a:pt x="2042" y="3277"/>
                </a:lnTo>
                <a:lnTo>
                  <a:pt x="2040" y="2853"/>
                </a:lnTo>
                <a:lnTo>
                  <a:pt x="2038" y="2454"/>
                </a:lnTo>
                <a:lnTo>
                  <a:pt x="2036" y="2090"/>
                </a:lnTo>
                <a:lnTo>
                  <a:pt x="2035" y="1774"/>
                </a:lnTo>
                <a:lnTo>
                  <a:pt x="2034" y="1514"/>
                </a:lnTo>
                <a:lnTo>
                  <a:pt x="2034" y="1213"/>
                </a:lnTo>
                <a:lnTo>
                  <a:pt x="2026" y="1032"/>
                </a:lnTo>
                <a:lnTo>
                  <a:pt x="2005" y="870"/>
                </a:lnTo>
                <a:lnTo>
                  <a:pt x="1972" y="724"/>
                </a:lnTo>
                <a:lnTo>
                  <a:pt x="1926" y="595"/>
                </a:lnTo>
                <a:lnTo>
                  <a:pt x="1872" y="482"/>
                </a:lnTo>
                <a:lnTo>
                  <a:pt x="1809" y="384"/>
                </a:lnTo>
                <a:lnTo>
                  <a:pt x="1739" y="298"/>
                </a:lnTo>
                <a:lnTo>
                  <a:pt x="1664" y="226"/>
                </a:lnTo>
                <a:lnTo>
                  <a:pt x="1583" y="166"/>
                </a:lnTo>
                <a:lnTo>
                  <a:pt x="1501" y="116"/>
                </a:lnTo>
                <a:lnTo>
                  <a:pt x="1416" y="77"/>
                </a:lnTo>
                <a:lnTo>
                  <a:pt x="1331" y="47"/>
                </a:lnTo>
                <a:lnTo>
                  <a:pt x="1249" y="26"/>
                </a:lnTo>
                <a:lnTo>
                  <a:pt x="1167" y="11"/>
                </a:lnTo>
                <a:lnTo>
                  <a:pt x="1090" y="3"/>
                </a:lnTo>
                <a:lnTo>
                  <a:pt x="1019" y="0"/>
                </a:lnTo>
                <a:lnTo>
                  <a:pt x="845" y="9"/>
                </a:lnTo>
                <a:lnTo>
                  <a:pt x="692" y="36"/>
                </a:lnTo>
                <a:lnTo>
                  <a:pt x="559" y="77"/>
                </a:lnTo>
                <a:lnTo>
                  <a:pt x="444" y="134"/>
                </a:lnTo>
                <a:lnTo>
                  <a:pt x="345" y="204"/>
                </a:lnTo>
                <a:lnTo>
                  <a:pt x="261" y="285"/>
                </a:lnTo>
                <a:lnTo>
                  <a:pt x="193" y="376"/>
                </a:lnTo>
                <a:lnTo>
                  <a:pt x="136" y="478"/>
                </a:lnTo>
                <a:lnTo>
                  <a:pt x="92" y="587"/>
                </a:lnTo>
                <a:lnTo>
                  <a:pt x="57" y="703"/>
                </a:lnTo>
                <a:lnTo>
                  <a:pt x="33" y="824"/>
                </a:lnTo>
                <a:lnTo>
                  <a:pt x="16" y="949"/>
                </a:lnTo>
                <a:lnTo>
                  <a:pt x="6" y="1076"/>
                </a:lnTo>
                <a:lnTo>
                  <a:pt x="1" y="1206"/>
                </a:lnTo>
                <a:lnTo>
                  <a:pt x="0" y="1336"/>
                </a:lnTo>
                <a:lnTo>
                  <a:pt x="3" y="1463"/>
                </a:lnTo>
                <a:lnTo>
                  <a:pt x="3" y="1625"/>
                </a:lnTo>
                <a:lnTo>
                  <a:pt x="4" y="1900"/>
                </a:lnTo>
                <a:lnTo>
                  <a:pt x="6" y="2273"/>
                </a:lnTo>
                <a:lnTo>
                  <a:pt x="8" y="2729"/>
                </a:lnTo>
                <a:lnTo>
                  <a:pt x="11" y="3249"/>
                </a:lnTo>
                <a:lnTo>
                  <a:pt x="14" y="3817"/>
                </a:lnTo>
                <a:lnTo>
                  <a:pt x="17" y="4415"/>
                </a:lnTo>
                <a:lnTo>
                  <a:pt x="20" y="5027"/>
                </a:lnTo>
                <a:lnTo>
                  <a:pt x="23" y="5636"/>
                </a:lnTo>
                <a:lnTo>
                  <a:pt x="26" y="6225"/>
                </a:lnTo>
                <a:lnTo>
                  <a:pt x="29" y="6777"/>
                </a:lnTo>
                <a:lnTo>
                  <a:pt x="32" y="7274"/>
                </a:lnTo>
                <a:lnTo>
                  <a:pt x="34" y="7702"/>
                </a:lnTo>
                <a:lnTo>
                  <a:pt x="36" y="8041"/>
                </a:lnTo>
                <a:lnTo>
                  <a:pt x="37" y="8276"/>
                </a:lnTo>
                <a:lnTo>
                  <a:pt x="38" y="8389"/>
                </a:lnTo>
                <a:lnTo>
                  <a:pt x="38" y="8446"/>
                </a:lnTo>
                <a:lnTo>
                  <a:pt x="39" y="8520"/>
                </a:lnTo>
                <a:lnTo>
                  <a:pt x="43" y="8611"/>
                </a:lnTo>
                <a:lnTo>
                  <a:pt x="53" y="8713"/>
                </a:lnTo>
                <a:lnTo>
                  <a:pt x="69" y="8823"/>
                </a:lnTo>
                <a:lnTo>
                  <a:pt x="93" y="8940"/>
                </a:lnTo>
                <a:lnTo>
                  <a:pt x="127" y="9060"/>
                </a:lnTo>
                <a:lnTo>
                  <a:pt x="173" y="9179"/>
                </a:lnTo>
                <a:lnTo>
                  <a:pt x="233" y="9297"/>
                </a:lnTo>
                <a:lnTo>
                  <a:pt x="308" y="9408"/>
                </a:lnTo>
                <a:lnTo>
                  <a:pt x="399" y="9510"/>
                </a:lnTo>
                <a:lnTo>
                  <a:pt x="510" y="9600"/>
                </a:lnTo>
                <a:lnTo>
                  <a:pt x="641" y="9675"/>
                </a:lnTo>
                <a:lnTo>
                  <a:pt x="795" y="9733"/>
                </a:lnTo>
                <a:lnTo>
                  <a:pt x="972" y="9770"/>
                </a:lnTo>
                <a:lnTo>
                  <a:pt x="1176" y="9782"/>
                </a:lnTo>
                <a:lnTo>
                  <a:pt x="1382" y="9769"/>
                </a:lnTo>
                <a:lnTo>
                  <a:pt x="1563" y="9737"/>
                </a:lnTo>
                <a:lnTo>
                  <a:pt x="1721" y="9688"/>
                </a:lnTo>
                <a:lnTo>
                  <a:pt x="1856" y="9626"/>
                </a:lnTo>
                <a:lnTo>
                  <a:pt x="1971" y="9550"/>
                </a:lnTo>
                <a:lnTo>
                  <a:pt x="2067" y="9462"/>
                </a:lnTo>
                <a:lnTo>
                  <a:pt x="2145" y="9367"/>
                </a:lnTo>
                <a:lnTo>
                  <a:pt x="2209" y="9264"/>
                </a:lnTo>
                <a:lnTo>
                  <a:pt x="2258" y="9157"/>
                </a:lnTo>
                <a:lnTo>
                  <a:pt x="2295" y="9046"/>
                </a:lnTo>
                <a:lnTo>
                  <a:pt x="2321" y="8934"/>
                </a:lnTo>
                <a:lnTo>
                  <a:pt x="2338" y="8823"/>
                </a:lnTo>
                <a:lnTo>
                  <a:pt x="2348" y="8715"/>
                </a:lnTo>
                <a:lnTo>
                  <a:pt x="2351" y="8611"/>
                </a:lnTo>
                <a:lnTo>
                  <a:pt x="2351" y="8514"/>
                </a:lnTo>
                <a:lnTo>
                  <a:pt x="2349" y="8425"/>
                </a:lnTo>
                <a:lnTo>
                  <a:pt x="2348" y="8275"/>
                </a:lnTo>
                <a:lnTo>
                  <a:pt x="2348" y="8039"/>
                </a:lnTo>
                <a:lnTo>
                  <a:pt x="2347" y="7732"/>
                </a:lnTo>
                <a:lnTo>
                  <a:pt x="2346" y="7367"/>
                </a:lnTo>
                <a:lnTo>
                  <a:pt x="2345" y="6955"/>
                </a:lnTo>
                <a:lnTo>
                  <a:pt x="2343" y="6510"/>
                </a:lnTo>
                <a:lnTo>
                  <a:pt x="2342" y="6047"/>
                </a:lnTo>
                <a:lnTo>
                  <a:pt x="2340" y="5576"/>
                </a:lnTo>
                <a:lnTo>
                  <a:pt x="2338" y="5112"/>
                </a:lnTo>
                <a:lnTo>
                  <a:pt x="2337" y="4668"/>
                </a:lnTo>
                <a:lnTo>
                  <a:pt x="2335" y="4256"/>
                </a:lnTo>
                <a:lnTo>
                  <a:pt x="2334" y="3890"/>
                </a:lnTo>
                <a:lnTo>
                  <a:pt x="2333" y="3582"/>
                </a:lnTo>
                <a:lnTo>
                  <a:pt x="2332" y="3346"/>
                </a:lnTo>
                <a:lnTo>
                  <a:pt x="2332" y="3141"/>
                </a:lnTo>
                <a:lnTo>
                  <a:pt x="2139" y="3141"/>
                </a:lnTo>
                <a:lnTo>
                  <a:pt x="2174" y="8389"/>
                </a:lnTo>
                <a:lnTo>
                  <a:pt x="2170" y="8540"/>
                </a:lnTo>
                <a:lnTo>
                  <a:pt x="2160" y="8680"/>
                </a:lnTo>
                <a:lnTo>
                  <a:pt x="2142" y="8806"/>
                </a:lnTo>
                <a:lnTo>
                  <a:pt x="2118" y="8921"/>
                </a:lnTo>
                <a:lnTo>
                  <a:pt x="2086" y="9026"/>
                </a:lnTo>
                <a:lnTo>
                  <a:pt x="2046" y="9120"/>
                </a:lnTo>
                <a:lnTo>
                  <a:pt x="2000" y="9203"/>
                </a:lnTo>
                <a:lnTo>
                  <a:pt x="1947" y="9275"/>
                </a:lnTo>
                <a:lnTo>
                  <a:pt x="1885" y="9339"/>
                </a:lnTo>
                <a:lnTo>
                  <a:pt x="1816" y="9392"/>
                </a:lnTo>
                <a:lnTo>
                  <a:pt x="1741" y="9437"/>
                </a:lnTo>
                <a:lnTo>
                  <a:pt x="1657" y="9471"/>
                </a:lnTo>
                <a:lnTo>
                  <a:pt x="1565" y="9499"/>
                </a:lnTo>
                <a:lnTo>
                  <a:pt x="1466" y="9518"/>
                </a:lnTo>
                <a:lnTo>
                  <a:pt x="1361" y="9529"/>
                </a:lnTo>
                <a:lnTo>
                  <a:pt x="1247" y="9532"/>
                </a:lnTo>
                <a:lnTo>
                  <a:pt x="1129" y="9529"/>
                </a:lnTo>
                <a:lnTo>
                  <a:pt x="1018" y="9517"/>
                </a:lnTo>
                <a:lnTo>
                  <a:pt x="915" y="9497"/>
                </a:lnTo>
                <a:lnTo>
                  <a:pt x="819" y="9469"/>
                </a:lnTo>
                <a:lnTo>
                  <a:pt x="731" y="9431"/>
                </a:lnTo>
                <a:lnTo>
                  <a:pt x="651" y="9386"/>
                </a:lnTo>
                <a:lnTo>
                  <a:pt x="578" y="9330"/>
                </a:lnTo>
                <a:lnTo>
                  <a:pt x="512" y="9265"/>
                </a:lnTo>
                <a:lnTo>
                  <a:pt x="455" y="9190"/>
                </a:lnTo>
                <a:lnTo>
                  <a:pt x="404" y="9103"/>
                </a:lnTo>
                <a:lnTo>
                  <a:pt x="362" y="9007"/>
                </a:lnTo>
                <a:lnTo>
                  <a:pt x="327" y="8900"/>
                </a:lnTo>
                <a:lnTo>
                  <a:pt x="300" y="8782"/>
                </a:lnTo>
                <a:lnTo>
                  <a:pt x="280" y="8651"/>
                </a:lnTo>
                <a:lnTo>
                  <a:pt x="268" y="8509"/>
                </a:lnTo>
                <a:lnTo>
                  <a:pt x="265" y="8354"/>
                </a:lnTo>
                <a:lnTo>
                  <a:pt x="264" y="8136"/>
                </a:lnTo>
                <a:lnTo>
                  <a:pt x="263" y="7812"/>
                </a:lnTo>
                <a:lnTo>
                  <a:pt x="261" y="7400"/>
                </a:lnTo>
                <a:lnTo>
                  <a:pt x="259" y="6915"/>
                </a:lnTo>
                <a:lnTo>
                  <a:pt x="257" y="6377"/>
                </a:lnTo>
                <a:lnTo>
                  <a:pt x="254" y="5797"/>
                </a:lnTo>
                <a:lnTo>
                  <a:pt x="251" y="5195"/>
                </a:lnTo>
                <a:lnTo>
                  <a:pt x="248" y="4588"/>
                </a:lnTo>
                <a:lnTo>
                  <a:pt x="244" y="3989"/>
                </a:lnTo>
                <a:lnTo>
                  <a:pt x="241" y="3418"/>
                </a:lnTo>
                <a:lnTo>
                  <a:pt x="238" y="2889"/>
                </a:lnTo>
                <a:lnTo>
                  <a:pt x="236" y="2419"/>
                </a:lnTo>
                <a:lnTo>
                  <a:pt x="234" y="2027"/>
                </a:lnTo>
                <a:lnTo>
                  <a:pt x="232" y="1724"/>
                </a:lnTo>
                <a:lnTo>
                  <a:pt x="231" y="1532"/>
                </a:lnTo>
                <a:lnTo>
                  <a:pt x="231" y="1463"/>
                </a:lnTo>
                <a:lnTo>
                  <a:pt x="235" y="1271"/>
                </a:lnTo>
                <a:lnTo>
                  <a:pt x="247" y="1101"/>
                </a:lnTo>
                <a:lnTo>
                  <a:pt x="267" y="952"/>
                </a:lnTo>
                <a:lnTo>
                  <a:pt x="293" y="823"/>
                </a:lnTo>
                <a:lnTo>
                  <a:pt x="328" y="711"/>
                </a:lnTo>
                <a:lnTo>
                  <a:pt x="367" y="617"/>
                </a:lnTo>
                <a:lnTo>
                  <a:pt x="413" y="538"/>
                </a:lnTo>
                <a:lnTo>
                  <a:pt x="462" y="473"/>
                </a:lnTo>
                <a:lnTo>
                  <a:pt x="516" y="421"/>
                </a:lnTo>
                <a:lnTo>
                  <a:pt x="576" y="379"/>
                </a:lnTo>
                <a:lnTo>
                  <a:pt x="637" y="348"/>
                </a:lnTo>
                <a:lnTo>
                  <a:pt x="703" y="324"/>
                </a:lnTo>
                <a:lnTo>
                  <a:pt x="771" y="307"/>
                </a:lnTo>
                <a:lnTo>
                  <a:pt x="840" y="296"/>
                </a:lnTo>
                <a:lnTo>
                  <a:pt x="911" y="290"/>
                </a:lnTo>
                <a:lnTo>
                  <a:pt x="983" y="285"/>
                </a:lnTo>
                <a:lnTo>
                  <a:pt x="1076" y="288"/>
                </a:lnTo>
                <a:lnTo>
                  <a:pt x="1167" y="297"/>
                </a:lnTo>
                <a:lnTo>
                  <a:pt x="1253" y="313"/>
                </a:lnTo>
                <a:lnTo>
                  <a:pt x="1334" y="335"/>
                </a:lnTo>
                <a:lnTo>
                  <a:pt x="1411" y="364"/>
                </a:lnTo>
                <a:lnTo>
                  <a:pt x="1484" y="400"/>
                </a:lnTo>
                <a:lnTo>
                  <a:pt x="1550" y="443"/>
                </a:lnTo>
                <a:lnTo>
                  <a:pt x="1612" y="494"/>
                </a:lnTo>
                <a:lnTo>
                  <a:pt x="1666" y="552"/>
                </a:lnTo>
                <a:lnTo>
                  <a:pt x="1716" y="618"/>
                </a:lnTo>
                <a:lnTo>
                  <a:pt x="1758" y="693"/>
                </a:lnTo>
                <a:lnTo>
                  <a:pt x="1793" y="775"/>
                </a:lnTo>
                <a:lnTo>
                  <a:pt x="1821" y="867"/>
                </a:lnTo>
                <a:lnTo>
                  <a:pt x="1842" y="968"/>
                </a:lnTo>
                <a:lnTo>
                  <a:pt x="1854" y="1078"/>
                </a:lnTo>
                <a:lnTo>
                  <a:pt x="1859" y="119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0BCE-09CC-484E-B19E-0B3A065328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I</a:t>
            </a: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tuitive </a:t>
            </a: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T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hinking Learner (NT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Like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lanning and organizing before work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orking independent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nalyzing and examining pros and c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rguing and deba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inking about ideas and how they are rela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Finding/designing a new way to do someth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Logical and strategic gam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553080" y="914400"/>
            <a:ext cx="990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FA39-7C5C-4B12-A272-456CF80287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I</a:t>
            </a: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tuitive </a:t>
            </a: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F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eling Learne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(NF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Lik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Learning without time constrai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raise for personal ideas and insigh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sing creativity and imagin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Open-ended activities with many possibili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orking on many things at o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elf-expression and self-discove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reative and artistic activi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391520" y="990720"/>
          <a:ext cx="154296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990720"/>
                    <a:ext cx="15429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F33C-2946-4ECC-BA78-B884A43614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16:09:23Z</dcterms:created>
  <dc:creator>FND</dc:creator>
  <dc:description/>
  <dc:language>en-US</dc:language>
  <cp:lastModifiedBy>remoteUser18</cp:lastModifiedBy>
  <dcterms:modified xsi:type="dcterms:W3CDTF">2007-09-13T12:55:42Z</dcterms:modified>
  <cp:revision>42</cp:revision>
  <dc:subject/>
  <dc:title>How To Create A Study Area At Home For Your Child</dc:title>
</cp:coreProperties>
</file>